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The Structure and Function of Macromolecules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C827-218A-4FCB-A06C-DD9983317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5.2: Carbohydrates serve as fuel and building mate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both sugars and their poly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DD1A-AE2E-4248-816B-42D5E48BE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ug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simplest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for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verted into other organic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mbined into poly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3667-51ED-4F3B-BFB4-F0D45729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 of mono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482480" y="1511280"/>
            <a:ext cx="5832720" cy="4613400"/>
            <a:chOff x="1482480" y="1511280"/>
            <a:chExt cx="5832720" cy="4613400"/>
          </a:xfrm>
        </p:grpSpPr>
        <p:sp>
          <p:nvSpPr>
            <p:cNvPr id="255" name=""/>
            <p:cNvSpPr/>
            <p:nvPr/>
          </p:nvSpPr>
          <p:spPr>
            <a:xfrm>
              <a:off x="2590920" y="1511280"/>
              <a:ext cx="19285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iose sugar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62360" y="1511280"/>
              <a:ext cx="19270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ntose sugar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18200" y="1511280"/>
              <a:ext cx="19270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xose sugar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2590920" y="1952640"/>
              <a:ext cx="4724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155760" y="265572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89040" y="243540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89040" y="26607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94080" y="28875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94080" y="312408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0520" y="24303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27560" y="26607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    C    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16120" y="28875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22600" y="312408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2600" y="335268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21320" y="243540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18000" y="26607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    C    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29160" y="28875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    C    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19520" y="312120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19520" y="335268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62240" y="24256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14440" y="431640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14440" y="477684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90840" y="523548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89040" y="499428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90840" y="477216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90840" y="430848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20520" y="4543560"/>
              <a:ext cx="51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   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34760" y="4549680"/>
              <a:ext cx="51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   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544500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67280" y="522288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67280" y="498636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76560" y="476568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    C   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62240" y="430524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87240" y="4533840"/>
              <a:ext cx="51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   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18000" y="54817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40160" y="5024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02360" y="5692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52760" y="409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18000" y="409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1200" y="409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30440" y="28861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54400" y="2028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1960" y="202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8400" y="202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65960" y="202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18000" y="3365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54800" y="35924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45240" y="3611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17840" y="22003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35640" y="2209680"/>
              <a:ext cx="24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70640" y="2209680"/>
              <a:ext cx="24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67560" y="2209680"/>
              <a:ext cx="24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9560" y="2060640"/>
              <a:ext cx="24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43440" y="2039760"/>
              <a:ext cx="244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05200" y="2028960"/>
              <a:ext cx="249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16200" y="2039760"/>
              <a:ext cx="247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1881360" y="2830320"/>
              <a:ext cx="2008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do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8680" y="3219480"/>
              <a:ext cx="1247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yceraldehy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3600" y="3540240"/>
              <a:ext cx="660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17560" y="3740040"/>
              <a:ext cx="74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55440" y="3757680"/>
              <a:ext cx="87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lact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79280" y="5210280"/>
              <a:ext cx="1408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hydroxyace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80040" y="5648400"/>
              <a:ext cx="779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u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1848600" y="4981680"/>
              <a:ext cx="1949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eto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9080" y="5823000"/>
              <a:ext cx="779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uct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82480" y="580356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818F-22EE-47ED-A144-D276B77D6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form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122120" y="2817720"/>
            <a:ext cx="7489080" cy="3355560"/>
            <a:chOff x="1122120" y="2817720"/>
            <a:chExt cx="7489080" cy="335556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1820880" y="3002040"/>
              <a:ext cx="65181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699920" y="28652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11720" y="3394080"/>
              <a:ext cx="105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    C     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89320" y="3733920"/>
              <a:ext cx="105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     C     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84720" y="4073400"/>
              <a:ext cx="105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    C     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5520" y="4767120"/>
              <a:ext cx="105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    C     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98760" y="4414680"/>
              <a:ext cx="617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   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55680" y="28177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25280" y="30542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25280" y="5106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48600" y="300204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63000" y="321156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000" y="355284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59760" y="385920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53640" y="424656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61560" y="459720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69720" y="3584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68280" y="4209840"/>
              <a:ext cx="451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88160" y="3881880"/>
              <a:ext cx="352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39800" y="3073680"/>
              <a:ext cx="7304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72080" y="3095640"/>
              <a:ext cx="841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55280" y="3438360"/>
              <a:ext cx="35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28720" y="3795840"/>
              <a:ext cx="413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04600" y="4340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07840" y="4660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5240" y="46720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55760" y="40384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61800" y="4332240"/>
              <a:ext cx="36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77160" y="3911400"/>
              <a:ext cx="343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66960" y="36450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89280" y="41227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28640" y="35910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58880" y="42400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98120" y="3897720"/>
              <a:ext cx="352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20320" y="3448080"/>
              <a:ext cx="343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81080" y="4343400"/>
              <a:ext cx="36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73240" y="4660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09960" y="3811680"/>
              <a:ext cx="413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0240" y="46720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25840" y="40384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72560" y="4343400"/>
              <a:ext cx="343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31760" y="3897360"/>
              <a:ext cx="36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28960" y="42987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14720" y="3578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98080" y="3299040"/>
              <a:ext cx="681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14640" y="38037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16440" y="4510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89440" y="39909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08560" y="41529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18000" y="3651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97320" y="45194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197560" y="41562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87840" y="36622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98520" y="3682440"/>
              <a:ext cx="243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7560" y="4160520"/>
              <a:ext cx="54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3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69200" y="3941280"/>
              <a:ext cx="20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06280" y="5441400"/>
              <a:ext cx="6244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) Linear and ring forms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Chemical equilibrium between the linear and 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uctures greatly favors the formation of rings. To form the glucose ring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bon 1 bonds to the oxygen attached to carbon 5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6320" y="44118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94800" y="4358880"/>
              <a:ext cx="249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43160" y="34574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27280" y="34448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21160" y="34495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9120" y="35780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99240" y="3507840"/>
              <a:ext cx="206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14400" y="3941280"/>
              <a:ext cx="243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22120" y="54604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AD38-4DAC-45A6-B6B6-1CB6907B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two mon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joined by a glycosidic lin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E36B-D082-46B4-A97C-2F3B103E0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 of disacchari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5960" y="1438200"/>
            <a:ext cx="8987760" cy="4810680"/>
            <a:chOff x="75960" y="1438200"/>
            <a:chExt cx="8987760" cy="4810680"/>
          </a:xfrm>
        </p:grpSpPr>
        <p:grpSp>
          <p:nvGrpSpPr>
            <p:cNvPr id="398" name=""/>
            <p:cNvGrpSpPr/>
            <p:nvPr/>
          </p:nvGrpSpPr>
          <p:grpSpPr>
            <a:xfrm>
              <a:off x="75960" y="1438200"/>
              <a:ext cx="8987760" cy="4428720"/>
              <a:chOff x="75960" y="1438200"/>
              <a:chExt cx="8987760" cy="4428720"/>
            </a:xfrm>
          </p:grpSpPr>
          <p:pic>
            <p:nvPicPr>
              <p:cNvPr id="3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63720" y="1904760"/>
                <a:ext cx="6781320" cy="34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279000" y="1448280"/>
                <a:ext cx="148644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hydration reaction 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 the synthesis of 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ltose.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he bonding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two glucose unit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orms maltose. Th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lycosidic link join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e number 1 carbon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one glucose to th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umber 4 carbon of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e second glucose.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oining the glucos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nomers in a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fferent way would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sult in a different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accharide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71080" y="4403880"/>
                <a:ext cx="1675440" cy="14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hydration reaction 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 the synthesis of 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crose.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ucrose i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 disaccharide formed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glucose and fructose.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tice that fructose,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ough a hexose lik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lucose, forms a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ve-sided ring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960" y="1438200"/>
                <a:ext cx="340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8840" y="4410000"/>
                <a:ext cx="348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720080" y="19857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602720" y="24382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15280" y="27572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5640" y="2104920"/>
                <a:ext cx="4136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96160" y="22572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96520" y="27730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82480" y="1923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697840" y="199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82160" y="236196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06640" y="165420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12880" y="4071600"/>
                <a:ext cx="293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00200" y="4466160"/>
                <a:ext cx="412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008080" y="4843440"/>
                <a:ext cx="293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998360" y="4096440"/>
                <a:ext cx="412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88960" y="4343400"/>
                <a:ext cx="293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0280" y="4775760"/>
                <a:ext cx="4125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84280" y="4010040"/>
                <a:ext cx="302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90640" y="4076640"/>
                <a:ext cx="293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74960" y="4356720"/>
                <a:ext cx="412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95480" y="3740040"/>
                <a:ext cx="6883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59760" y="19857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92000" y="236988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936240" y="27478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936240" y="2095560"/>
                <a:ext cx="4136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36200" y="22860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38000" y="276372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331880" y="1923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637880" y="20001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803120" y="23526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927240" y="16444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363120" y="23716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94200" y="2949480"/>
                <a:ext cx="462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96000" y="5056200"/>
                <a:ext cx="462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359880" y="44672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552280" y="40622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499920" y="4479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39440" y="48574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33320" y="437184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958560" y="43812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45960" y="48574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150800" y="400032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44360" y="40860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10080" y="384660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629240" y="454032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57240" y="45432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68240" y="486864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834880" y="48672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26240" y="37306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44960" y="4099320"/>
                <a:ext cx="412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36280" y="43621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36440" y="19713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19080" y="24526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84080" y="27828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22280" y="27619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42080" y="166356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41720" y="2013480"/>
                <a:ext cx="412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17560" y="22953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217920" y="40287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89120" y="1923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95200" y="19713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174880" y="27748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81040" y="27619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800840" y="166356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00840" y="2013480"/>
                <a:ext cx="412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76320" y="22953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8240" y="1923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87480" y="48592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06600" y="486864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15000" y="382572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19920" y="4373280"/>
                <a:ext cx="41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089200" y="43750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997400" y="399708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381880" y="45496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492400" y="4105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474760" y="199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470080" y="246996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968520" y="4533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59160" y="249552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96640" y="425772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76120" y="425124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577920" y="21621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457400" y="215568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40280" y="2003400"/>
                <a:ext cx="733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–</a:t>
                </a: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lycosidic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inka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49640" y="4047840"/>
                <a:ext cx="733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–2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lycosidic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inka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87560" y="5317920"/>
                <a:ext cx="685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97280" y="3200400"/>
                <a:ext cx="685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59280" y="3181320"/>
                <a:ext cx="685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63240" y="5327640"/>
                <a:ext cx="7200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ruct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01920" y="3184560"/>
                <a:ext cx="655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lt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78160" y="5324400"/>
                <a:ext cx="683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cr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29960" y="242712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2120" y="40669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03040" y="19857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300960" y="59432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0051-EB0A-4734-9BAB-573C020E1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lysaccharid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olymers of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many roles in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1229-09BD-4FD5-90D7-649CDAF5B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Storage Polysaccharid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olymer consisting entirely of glucose mon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4B7F-B5F1-4355-800D-C10D3D44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ajor storage form of glucose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404800" y="1523520"/>
            <a:ext cx="4379760" cy="4877640"/>
            <a:chOff x="2404800" y="1523520"/>
            <a:chExt cx="4379760" cy="4877640"/>
          </a:xfrm>
        </p:grpSpPr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3057480" y="1890720"/>
              <a:ext cx="3422520" cy="42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3632040" y="1523520"/>
              <a:ext cx="1143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01480" y="1536480"/>
              <a:ext cx="70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02200" y="1828800"/>
              <a:ext cx="0" cy="10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4330800" y="1817640"/>
              <a:ext cx="984240" cy="152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11720" y="1803240"/>
              <a:ext cx="109440" cy="85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73400" y="5373360"/>
              <a:ext cx="92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y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31040" y="539244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ylopect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1400" y="4003560"/>
              <a:ext cx="528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64120" y="6092640"/>
              <a:ext cx="303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) Starch: a plant polysacchar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4800" y="609552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D8B5-3C7A-4F58-A58D-4150B4B3F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c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glucose mon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ajor storage form of glucose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354040" y="2629800"/>
            <a:ext cx="4411440" cy="3831840"/>
            <a:chOff x="2354040" y="2629800"/>
            <a:chExt cx="4411440" cy="38318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3459240" y="3189240"/>
              <a:ext cx="259380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3944520" y="2650680"/>
              <a:ext cx="1206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70440" y="2629800"/>
              <a:ext cx="1535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iycogen granu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78520" y="4370400"/>
              <a:ext cx="1265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103640" y="2960640"/>
              <a:ext cx="533520" cy="95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578120" y="2948040"/>
              <a:ext cx="68040" cy="82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12280" y="6156000"/>
              <a:ext cx="355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) Glycogen: an animal polysacchar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05880" y="5609880"/>
              <a:ext cx="995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yco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040" y="615600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130720" y="3124080"/>
              <a:ext cx="247680" cy="74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5263920" y="3114720"/>
              <a:ext cx="106200" cy="67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F710-663B-4E49-BD0F-197EF228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The Molecules of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level in the hierarchy of biological organization is reached when small organic molecules are join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8A7D-5A08-4AD3-825D-750501CF6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Structural Polysaccharid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olymer of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7451-8714-4C88-AA77-060578C3A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ifferent glycosidic linkages than st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558440" y="1249200"/>
            <a:ext cx="5934240" cy="5266440"/>
            <a:chOff x="1558440" y="1249200"/>
            <a:chExt cx="5934240" cy="5266440"/>
          </a:xfrm>
        </p:grpSpPr>
        <p:grpSp>
          <p:nvGrpSpPr>
            <p:cNvPr id="541" name=""/>
            <p:cNvGrpSpPr/>
            <p:nvPr/>
          </p:nvGrpSpPr>
          <p:grpSpPr>
            <a:xfrm>
              <a:off x="3120840" y="1249200"/>
              <a:ext cx="4371840" cy="5189400"/>
              <a:chOff x="3120840" y="1249200"/>
              <a:chExt cx="4371840" cy="5189400"/>
            </a:xfrm>
          </p:grpSpPr>
          <p:pic>
            <p:nvPicPr>
              <p:cNvPr id="5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16960" y="1268280"/>
                <a:ext cx="4184280" cy="517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3139560" y="6162840"/>
                <a:ext cx="35546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(c) Cellulose: 1– 4 linkage of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glucose monom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96360" y="124920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315760" y="126684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823920" y="17373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520800" y="1426680"/>
                <a:ext cx="601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463200" y="18705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509280" y="2012760"/>
                <a:ext cx="39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80720" y="20347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040640" y="1770120"/>
                <a:ext cx="3974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067640" y="219204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37240" y="244296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444120" y="2450880"/>
                <a:ext cx="39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97520" y="177300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50000" y="21934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60440" y="1990440"/>
                <a:ext cx="3970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094000" y="143640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82120" y="170640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92560" y="19713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89680" y="22363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86440" y="25012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83920" y="276624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25440" y="170928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828320" y="223632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25440" y="278424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783680" y="19594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02880" y="169740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348160" y="19713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395320" y="2243520"/>
                <a:ext cx="39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393880" y="251892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391000" y="278424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28320" y="252072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604200" y="171972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278760" y="1418760"/>
                <a:ext cx="6022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228360" y="18676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53440" y="20397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13360" y="219204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841440" y="176112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594840" y="244080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224040" y="243324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962320" y="17035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922720" y="21625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918400" y="1999440"/>
                <a:ext cx="398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65080" y="20379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537360" y="3530520"/>
                <a:ext cx="60084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833640" y="380844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20800" y="40809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25000" y="450720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130920" y="41680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208040" y="4019760"/>
                <a:ext cx="399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003920" y="4027680"/>
                <a:ext cx="398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67000" y="41385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516560" y="3498840"/>
                <a:ext cx="601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813920" y="380520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512240" y="40615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04560" y="44967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44760" y="41043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497200" y="3515400"/>
                <a:ext cx="6022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94560" y="38199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97200" y="407916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85200" y="449676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81080" y="3508560"/>
                <a:ext cx="6022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79520" y="381420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81080" y="4073040"/>
                <a:ext cx="39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770520" y="44920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32960" y="409248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120440" y="412920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525120" y="4975560"/>
                <a:ext cx="601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822480" y="52545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509280" y="552708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813480" y="59533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20840" y="561312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206240" y="5567040"/>
                <a:ext cx="3970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168440" y="543060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008240" y="5580000"/>
                <a:ext cx="398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17880" y="506952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3920" y="571824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04680" y="546192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492880" y="552528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156640" y="55731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91440" y="4983480"/>
                <a:ext cx="60084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788440" y="525924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99960" y="5957640"/>
                <a:ext cx="39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139080" y="54399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77840" y="54619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777000" y="571320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88160" y="50637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93800" y="56383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72680" y="3258360"/>
                <a:ext cx="2487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(a)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and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glucose ring structur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73400" y="4771440"/>
                <a:ext cx="33476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(b) Starch: 1– 4 linkage of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glucose monom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841440" y="1999440"/>
                <a:ext cx="398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360240" y="2751480"/>
                <a:ext cx="851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401520" y="2768400"/>
                <a:ext cx="839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525560" y="5850360"/>
                <a:ext cx="60084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485400" y="5850360"/>
                <a:ext cx="601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978800" y="4006800"/>
                <a:ext cx="400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206320" y="4014000"/>
                <a:ext cx="398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73640" y="4019760"/>
                <a:ext cx="3970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74560" y="4030200"/>
                <a:ext cx="398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9080" y="4019760"/>
                <a:ext cx="398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1558440" y="6210000"/>
              <a:ext cx="1433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7 A–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7935-84F5-4D84-AA7F-F751D40C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74240" y="1525680"/>
            <a:ext cx="8969400" cy="5043600"/>
            <a:chOff x="174240" y="1525680"/>
            <a:chExt cx="8969400" cy="5043600"/>
          </a:xfrm>
        </p:grpSpPr>
        <p:grpSp>
          <p:nvGrpSpPr>
            <p:cNvPr id="646" name=""/>
            <p:cNvGrpSpPr/>
            <p:nvPr/>
          </p:nvGrpSpPr>
          <p:grpSpPr>
            <a:xfrm>
              <a:off x="987840" y="1525680"/>
              <a:ext cx="8155800" cy="5043600"/>
              <a:chOff x="987840" y="1525680"/>
              <a:chExt cx="8155800" cy="50436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987840" y="1525680"/>
                <a:ext cx="7950600" cy="5043600"/>
                <a:chOff x="987840" y="1525680"/>
                <a:chExt cx="7950600" cy="50436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987840" y="1525680"/>
                  <a:ext cx="7950600" cy="5043600"/>
                  <a:chOff x="987840" y="1525680"/>
                  <a:chExt cx="7950600" cy="5043600"/>
                </a:xfrm>
              </p:grpSpPr>
              <p:pic>
                <p:nvPicPr>
                  <p:cNvPr id="64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892880" y="1525680"/>
                    <a:ext cx="6047640" cy="49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0" name=""/>
                  <p:cNvSpPr/>
                  <p:nvPr/>
                </p:nvSpPr>
                <p:spPr>
                  <a:xfrm>
                    <a:off x="3123000" y="3978360"/>
                    <a:ext cx="7596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lant cell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4766760" y="3480120"/>
                    <a:ext cx="57348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.5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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314160" y="2366640"/>
                    <a:ext cx="7167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 wall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>
                    <a:off x="3590280" y="2543760"/>
                    <a:ext cx="32400" cy="285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622680" y="2543760"/>
                    <a:ext cx="193680" cy="2545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4188960" y="2110320"/>
                    <a:ext cx="1683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ulose microfibrils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a plant cell wa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rot="18552600">
                    <a:off x="5911560" y="2391840"/>
                    <a:ext cx="42732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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857560" y="2252520"/>
                    <a:ext cx="72468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crofibri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>
                    <a:off x="6130800" y="2458800"/>
                    <a:ext cx="32400" cy="169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968640" y="537804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531960" y="442116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3587400" y="46123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3738240" y="4765320"/>
                    <a:ext cx="32580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423600" y="46857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885120" y="45554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039200" y="462888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80320" y="46872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3986280" y="479340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347000" y="4699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813920" y="45511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186800" y="44269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47600" y="45511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448520" y="443124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5104800" y="44269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4514400" y="462456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4978800" y="462744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100120" y="47005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259600" y="52675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512520" y="499572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3891960" y="5153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3423600" y="52797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3738240" y="5348520"/>
                    <a:ext cx="32580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3504600" y="557640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3430080" y="58212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3894840" y="57243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738240" y="5919840"/>
                    <a:ext cx="32580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4340880" y="58417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347000" y="52761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973400" y="480348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652640" y="481176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4432320" y="499572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194360" y="500400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816800" y="5144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3608640" y="51973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064040" y="521928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522320" y="519840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4981680" y="521604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5253840" y="47005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3599640" y="57751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4060080" y="577296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3981240" y="595368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4448520" y="557280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4514400" y="575100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4647600" y="56811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4637160" y="596196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4900680" y="596844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804560" y="5707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5266800" y="5838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4652640" y="539208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4900680" y="538380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5104800" y="55843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4327200" y="6187320"/>
                    <a:ext cx="75924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561"/>
                      </a:spcBef>
                      <a:buClr>
                        <a:srgbClr val="000000"/>
                      </a:buClr>
                      <a:buFont typeface="Symbol" charset="2"/>
                      <a:buChar char="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lucose monomer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7816320" y="4132080"/>
                    <a:ext cx="424080" cy="6987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724160" y="4268160"/>
                    <a:ext cx="516240" cy="550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3724920" y="45424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4650840" y="5113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3722040" y="56973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3731400" y="5113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5093640" y="52984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177440" y="58665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987840" y="5255640"/>
                    <a:ext cx="195120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arallel cellulose molecules a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ld together by hydroge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onds between hydroxy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ups attached to carb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toms 3 and 6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852640" y="5346720"/>
                    <a:ext cx="0" cy="703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V="1">
                    <a:off x="2852640" y="5534280"/>
                    <a:ext cx="9590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7435080" y="1924200"/>
                    <a:ext cx="150336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bout 80 cellulos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olecules associat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o form a microfibril,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ain architectural uni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of the plant cell wal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7502760" y="2009160"/>
                    <a:ext cx="0" cy="676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V="1">
                    <a:off x="6469200" y="2415960"/>
                    <a:ext cx="1033560" cy="304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899760" y="5850720"/>
                    <a:ext cx="133416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cellulose molecu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s an unbranched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lucose polymer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966000" y="5900760"/>
                    <a:ext cx="0" cy="45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174000" y="5815440"/>
                    <a:ext cx="785520" cy="374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5101920" y="501444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0" name=""/>
                <p:cNvSpPr/>
                <p:nvPr/>
              </p:nvSpPr>
              <p:spPr>
                <a:xfrm>
                  <a:off x="4183560" y="559008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177440" y="531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117400" y="5873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980240" y="580392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" name=""/>
              <p:cNvSpPr/>
              <p:nvPr/>
            </p:nvSpPr>
            <p:spPr>
              <a:xfrm>
                <a:off x="7407000" y="4809960"/>
                <a:ext cx="17366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ellul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lecu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74240" y="61084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ajor component of the tough walls that enclose pl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C0E9-1771-48DC-B6D8-2B3BA9BC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ulose is difficult to dig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ws have microbes in their stomachs to facilitate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02840" y="2652840"/>
            <a:ext cx="8283960" cy="3761280"/>
            <a:chOff x="402840" y="2652840"/>
            <a:chExt cx="8283960" cy="3761280"/>
          </a:xfrm>
        </p:grpSpPr>
        <p:pic>
          <p:nvPicPr>
            <p:cNvPr id="741" name="" descr=""/>
            <p:cNvPicPr/>
            <p:nvPr/>
          </p:nvPicPr>
          <p:blipFill>
            <a:blip r:embed="rId1"/>
            <a:stretch/>
          </p:blipFill>
          <p:spPr>
            <a:xfrm>
              <a:off x="1828800" y="2652840"/>
              <a:ext cx="685800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402840" y="61084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745B-BD03-4E9B-83FE-9A3865A2E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itin, another important structural polysacchar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und in the exoskeleton of arthrop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as surgical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61280" y="3170160"/>
            <a:ext cx="8601480" cy="3258360"/>
            <a:chOff x="161280" y="3170160"/>
            <a:chExt cx="8601480" cy="3258360"/>
          </a:xfrm>
        </p:grpSpPr>
        <p:grpSp>
          <p:nvGrpSpPr>
            <p:cNvPr id="747" name=""/>
            <p:cNvGrpSpPr/>
            <p:nvPr/>
          </p:nvGrpSpPr>
          <p:grpSpPr>
            <a:xfrm>
              <a:off x="864720" y="3170160"/>
              <a:ext cx="7898040" cy="3258360"/>
              <a:chOff x="864720" y="3170160"/>
              <a:chExt cx="7898040" cy="3258360"/>
            </a:xfrm>
          </p:grpSpPr>
          <p:grpSp>
            <p:nvGrpSpPr>
              <p:cNvPr id="748" name=""/>
              <p:cNvGrpSpPr/>
              <p:nvPr/>
            </p:nvGrpSpPr>
            <p:grpSpPr>
              <a:xfrm>
                <a:off x="869400" y="3170160"/>
                <a:ext cx="7893360" cy="3258360"/>
                <a:chOff x="869400" y="3170160"/>
                <a:chExt cx="7893360" cy="325836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869400" y="5342400"/>
                  <a:ext cx="200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The structure of th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itin monomer.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5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19600" y="3170160"/>
                  <a:ext cx="7643160" cy="202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1" name=""/>
                <p:cNvSpPr/>
                <p:nvPr/>
              </p:nvSpPr>
              <p:spPr>
                <a:xfrm>
                  <a:off x="1559520" y="35686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49920" y="3287160"/>
                  <a:ext cx="627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229040" y="3831840"/>
                  <a:ext cx="4136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230480" y="37062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984600" y="3620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802520" y="3615480"/>
                  <a:ext cx="4136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806840" y="3950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599120" y="4187880"/>
                  <a:ext cx="4046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564920" y="442116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582920" y="4656960"/>
                  <a:ext cx="41976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843920" y="44190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564920" y="3853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29040" y="41828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788560" y="5270400"/>
                  <a:ext cx="2918880" cy="115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b)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itin forms the exoskeleton 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f arthropods. This cicad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 molting, shedding its old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xoskeleton and emerg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 adult form.                 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01520" y="5295960"/>
                  <a:ext cx="3063960" cy="94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c)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itin is used to make a 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rong and flexible surgic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    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read that decomposes af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  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e wound or incision heals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" name=""/>
              <p:cNvSpPr/>
              <p:nvPr/>
            </p:nvSpPr>
            <p:spPr>
              <a:xfrm>
                <a:off x="864720" y="394632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161280" y="6121080"/>
              <a:ext cx="1532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0 A–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19E5-F8AB-46FE-9D15-F1D9B5ACE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5.3: Lipids are a diverse group of hydrophobic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one class of large biological molecules that do not consist of poly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the common trait of being hydroph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8889-E847-484A-9534-B745233A5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at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nstructed from two types of smaller molecules, a single glycerol and usually three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51360" y="6278400"/>
            <a:ext cx="253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Fat molecule (triacylglyce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3106800" y="2792520"/>
            <a:ext cx="4635360" cy="351144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371400" y="2778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366800" y="2822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4880" y="2752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9248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209920" y="2822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782600" y="2827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22680" y="2760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30400" y="2820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843160" y="2755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52680" y="2822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265440" y="2759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476760" y="2822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68448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97240" y="2822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108560" y="2755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326000" y="282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90600" y="2792520"/>
            <a:ext cx="26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015000" y="2905200"/>
            <a:ext cx="4762800" cy="3414600"/>
            <a:chOff x="3015000" y="2905200"/>
            <a:chExt cx="4762800" cy="3414600"/>
          </a:xfrm>
        </p:grpSpPr>
        <p:sp>
          <p:nvSpPr>
            <p:cNvPr id="794" name=""/>
            <p:cNvSpPr/>
            <p:nvPr/>
          </p:nvSpPr>
          <p:spPr>
            <a:xfrm>
              <a:off x="3160440" y="2930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560040" y="2930400"/>
              <a:ext cx="366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63480" y="2932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363480" y="3216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63480" y="3492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160440" y="3213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60440" y="3487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80920" y="3497400"/>
              <a:ext cx="337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84160" y="3216240"/>
              <a:ext cx="337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366720" y="3654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60680" y="3141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4880" y="3073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84400" y="3146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000400" y="3073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213160" y="3143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19440" y="3078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30400" y="3143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43160" y="3073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55920" y="3141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70120" y="3076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74960" y="3143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92400" y="3076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00480" y="3141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17920" y="3073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326000" y="3141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19680" y="291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318080" y="29671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08560" y="2905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6280" y="29066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0280" y="29718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62200" y="2905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46560" y="2973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37040" y="29098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30400" y="2968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17640" y="2905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03440" y="2973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92480" y="2905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77920" y="2973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66960" y="2905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357440" y="2973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147920" y="29210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895800" y="29718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76280" y="3803760"/>
              <a:ext cx="797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lyce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62120" y="3270240"/>
              <a:ext cx="1125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tty ac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palmitic aci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6163400">
              <a:off x="3709800" y="4257000"/>
              <a:ext cx="127080" cy="44136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11520 h 441360"/>
                <a:gd name="textAreaBottom" fmla="*/ 42984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339720" y="4510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23720" y="4657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26960" y="5197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30200" y="5751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39720" y="5924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987360" y="5983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03360" y="5919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12880" y="5989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25640" y="5919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836600" y="5989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047920" y="5919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57440" y="5989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473440" y="5919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84400" y="5989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93920" y="5924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06680" y="5983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318000" y="59166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32200" y="5989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41720" y="5924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53040" y="5983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52840" y="57484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43320" y="5662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37040" y="5610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25720" y="5662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18000" y="5605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8760" y="5653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93920" y="56134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78280" y="5662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66960" y="56134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56000" y="5657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47920" y="5605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830480" y="5657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20960" y="5605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16120" y="5657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01920" y="5605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87360" y="5662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87360" y="54230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87360" y="5113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203360" y="5048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0964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25640" y="5054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35160" y="5113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47920" y="5054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5600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73440" y="5048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67972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893920" y="5048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09876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18000" y="5048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52752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37040" y="5048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5124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44920" y="5202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54480" y="5425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3848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30760" y="5425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1620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05240" y="5425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9572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684400" y="5425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47344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62120" y="5425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4792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35160" y="54309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2564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09640" y="54309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0336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95280" y="457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01920" y="4519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09640" y="45626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25640" y="4516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836600" y="4568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49360" y="4516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62120" y="4568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73440" y="4519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81160" y="4575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889240" y="4518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105240" y="4575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16200" y="4518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527520" y="4568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737040" y="4518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51240" y="4568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59320" y="4656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954480" y="4892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4172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530760" y="4892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32124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08480" y="4888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9716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689080" y="4888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7668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3920" y="4892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04648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35160" y="4888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25640" y="4842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16120" y="4892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0336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90600" y="4896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881160" y="3025800"/>
              <a:ext cx="337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773160" y="449892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49240" y="46576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47800" y="519120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547800" y="575136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338280" y="5751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338280" y="5197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33828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71720" y="4670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81240" y="4716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0192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04960" y="4718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1916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31920" y="4714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04144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249520" y="4718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46840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675040" y="4714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8456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098760" y="4718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1800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27520" y="4718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3704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49800" y="4714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948000" y="525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54480" y="5807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37040" y="5756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27520" y="5807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16200" y="57754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98760" y="5807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95720" y="5756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679720" y="5815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6960" y="5756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249520" y="5803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041440" y="5751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35160" y="5811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625640" y="5759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408200" y="5807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198680" y="5756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82680" y="5807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71720" y="5759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774600" y="5210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984120" y="5251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01920" y="520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06400" y="52531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20960" y="520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831920" y="5251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41440" y="520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49520" y="525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66960" y="520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676480" y="525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90680" y="5202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00560" y="525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16200" y="51926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525720" y="525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737040" y="5197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73160" y="504036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73160" y="559764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15000" y="3987720"/>
              <a:ext cx="368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 Dehydration reaction in the synthesis of a f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241440" y="4192560"/>
              <a:ext cx="1068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ter link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40200" y="6194520"/>
              <a:ext cx="331560" cy="12528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1398240" y="6262560"/>
            <a:ext cx="99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5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866B-7984-4DFB-87DF-2B49970B6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tty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in the length and number and locations of double bonds they co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0B52-AFCE-4BC7-8843-AA1BD2319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urated fatty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maximum number of hydrogen atom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 doubl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2382480" y="3340080"/>
            <a:ext cx="5618520" cy="3006720"/>
            <a:chOff x="2382480" y="3340080"/>
            <a:chExt cx="5618520" cy="3006720"/>
          </a:xfrm>
        </p:grpSpPr>
        <p:pic>
          <p:nvPicPr>
            <p:cNvPr id="1006" name="" descr=""/>
            <p:cNvPicPr/>
            <p:nvPr/>
          </p:nvPicPr>
          <p:blipFill>
            <a:blip r:embed="rId1"/>
            <a:stretch/>
          </p:blipFill>
          <p:spPr>
            <a:xfrm>
              <a:off x="2413080" y="3340080"/>
              <a:ext cx="5587920" cy="30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/>
            <p:cNvSpPr/>
            <p:nvPr/>
          </p:nvSpPr>
          <p:spPr>
            <a:xfrm>
              <a:off x="3377520" y="5970600"/>
              <a:ext cx="2416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  Saturated fat and fatty ac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502680" y="4894200"/>
              <a:ext cx="983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earic ac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82480" y="59688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67EB-102F-4110-9A7B-5D8968C4D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saturated fatty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one or more doubl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836360" y="2362320"/>
            <a:ext cx="6090840" cy="3569040"/>
            <a:chOff x="1836360" y="2362320"/>
            <a:chExt cx="6090840" cy="3569040"/>
          </a:xfrm>
        </p:grpSpPr>
        <p:grpSp>
          <p:nvGrpSpPr>
            <p:cNvPr id="1013" name=""/>
            <p:cNvGrpSpPr/>
            <p:nvPr/>
          </p:nvGrpSpPr>
          <p:grpSpPr>
            <a:xfrm>
              <a:off x="2819520" y="2362320"/>
              <a:ext cx="5107680" cy="3569040"/>
              <a:chOff x="2819520" y="2362320"/>
              <a:chExt cx="5107680" cy="3569040"/>
            </a:xfrm>
          </p:grpSpPr>
          <p:pic>
            <p:nvPicPr>
              <p:cNvPr id="10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2362320"/>
                <a:ext cx="5054400" cy="31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"/>
              <p:cNvSpPr/>
              <p:nvPr/>
            </p:nvSpPr>
            <p:spPr>
              <a:xfrm>
                <a:off x="3075120" y="5623200"/>
                <a:ext cx="2609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b)  Unsaturated fat and fatty ac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026760" y="5473800"/>
                <a:ext cx="12578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double b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uses be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071480" y="4069080"/>
                <a:ext cx="855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leic ac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629400" y="482616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1836360" y="56131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22FE-99DE-443C-B0D9-9A23DAA3E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arge molecules composed of smalle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plex in their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68000" y="3162240"/>
            <a:ext cx="5964840" cy="3251880"/>
            <a:chOff x="1368000" y="3162240"/>
            <a:chExt cx="5964840" cy="32518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2455920" y="3162240"/>
              <a:ext cx="487692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368000" y="61084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23C5-3104-48FE-A2DD-558C6A711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hospholipid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only two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phosphate group instead of a thir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8BE0-4EDB-4A90-A551-85F47C0D8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spholipid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a hydrophilic “head” and hydrophobic “tai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24360" y="2247840"/>
            <a:ext cx="8820360" cy="4318560"/>
            <a:chOff x="324360" y="2247840"/>
            <a:chExt cx="8820360" cy="4318560"/>
          </a:xfrm>
        </p:grpSpPr>
        <p:grpSp>
          <p:nvGrpSpPr>
            <p:cNvPr id="1027" name=""/>
            <p:cNvGrpSpPr/>
            <p:nvPr/>
          </p:nvGrpSpPr>
          <p:grpSpPr>
            <a:xfrm>
              <a:off x="324360" y="2247840"/>
              <a:ext cx="8820360" cy="4318560"/>
              <a:chOff x="324360" y="2247840"/>
              <a:chExt cx="8820360" cy="4318560"/>
            </a:xfrm>
          </p:grpSpPr>
          <p:pic>
            <p:nvPicPr>
              <p:cNvPr id="10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7360" y="2351160"/>
                <a:ext cx="6346800" cy="3890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9" name=""/>
              <p:cNvGrpSpPr/>
              <p:nvPr/>
            </p:nvGrpSpPr>
            <p:grpSpPr>
              <a:xfrm>
                <a:off x="324360" y="2247840"/>
                <a:ext cx="8820360" cy="4318560"/>
                <a:chOff x="324360" y="2247840"/>
                <a:chExt cx="8820360" cy="431856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3014640" y="2561400"/>
                  <a:ext cx="46692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2973240" y="2793960"/>
                  <a:ext cx="358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2979720" y="2982960"/>
                  <a:ext cx="360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727360" y="2986200"/>
                  <a:ext cx="360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219480" y="2987640"/>
                  <a:ext cx="360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979720" y="3184560"/>
                  <a:ext cx="360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995560" y="3386880"/>
                  <a:ext cx="46692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644920" y="3389400"/>
                  <a:ext cx="3981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230560" y="3372480"/>
                  <a:ext cx="4316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614680" y="3594240"/>
                  <a:ext cx="358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168640" y="3594240"/>
                  <a:ext cx="358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166840" y="3840120"/>
                  <a:ext cx="358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451240" y="3843360"/>
                  <a:ext cx="360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2614680" y="3841920"/>
                  <a:ext cx="358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2906640" y="3840120"/>
                  <a:ext cx="357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181400" y="2860200"/>
                  <a:ext cx="1038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10560" y="3428640"/>
                  <a:ext cx="840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lyce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614600" y="6262560"/>
                  <a:ext cx="17366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 Structural formu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5073840" y="6195960"/>
                  <a:ext cx="18219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 Space-filling mod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7200" y="4667040"/>
                  <a:ext cx="1050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atty acid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638840" y="6091200"/>
                  <a:ext cx="14223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c) Phospholipid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rot="16207200">
                  <a:off x="1284480" y="5261040"/>
                  <a:ext cx="1474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ydrophobic tail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8256960" y="5186520"/>
                  <a:ext cx="8100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phil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e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8043840" y="5319720"/>
                  <a:ext cx="250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8249400" y="5533920"/>
                  <a:ext cx="895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phob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ails       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056440" y="5661000"/>
                  <a:ext cx="19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7947000" y="5661000"/>
                  <a:ext cx="30636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347280" y="2893680"/>
                  <a:ext cx="284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rot="16207200">
                  <a:off x="1324080" y="2892240"/>
                  <a:ext cx="14241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ydrophilic he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019320" y="2336040"/>
                  <a:ext cx="43668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15240" y="2382480"/>
                  <a:ext cx="7884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olin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479400" y="2247840"/>
                  <a:ext cx="29628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24360" y="6260760"/>
                  <a:ext cx="1177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gure 5.13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3" name=""/>
            <p:cNvSpPr/>
            <p:nvPr/>
          </p:nvSpPr>
          <p:spPr>
            <a:xfrm>
              <a:off x="3460680" y="2386800"/>
              <a:ext cx="68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(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1DD4-A839-4968-B349-80900EA6D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ructure of phospho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a bilayer arrangement found in cell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709200" y="2438280"/>
            <a:ext cx="7672680" cy="3962880"/>
            <a:chOff x="709200" y="2438280"/>
            <a:chExt cx="7672680" cy="3962880"/>
          </a:xfrm>
        </p:grpSpPr>
        <p:pic>
          <p:nvPicPr>
            <p:cNvPr id="1068" name="" descr=""/>
            <p:cNvPicPr/>
            <p:nvPr/>
          </p:nvPicPr>
          <p:blipFill>
            <a:blip r:embed="rId1"/>
            <a:stretch/>
          </p:blipFill>
          <p:spPr>
            <a:xfrm>
              <a:off x="1981080" y="2438280"/>
              <a:ext cx="6400800" cy="385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"/>
            <p:cNvGrpSpPr/>
            <p:nvPr/>
          </p:nvGrpSpPr>
          <p:grpSpPr>
            <a:xfrm>
              <a:off x="2012400" y="2604960"/>
              <a:ext cx="3628080" cy="3501000"/>
              <a:chOff x="2012400" y="2604960"/>
              <a:chExt cx="3628080" cy="3501000"/>
            </a:xfrm>
          </p:grpSpPr>
          <p:sp>
            <p:nvSpPr>
              <p:cNvPr id="1070" name=""/>
              <p:cNvSpPr/>
              <p:nvPr/>
            </p:nvSpPr>
            <p:spPr>
              <a:xfrm>
                <a:off x="2070360" y="2828880"/>
                <a:ext cx="9396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ydrophil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ead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81600" y="2604960"/>
                <a:ext cx="73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A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5360" y="5364000"/>
                <a:ext cx="73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A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012400" y="5648400"/>
                <a:ext cx="10429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ydrophob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ail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>
              <a:off x="709200" y="60955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E2C-9B10-4615-9AEF-FB2CF9B36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eroid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ipids characterized by a carbon skeleton consisting of four fused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2B62-1EE3-4323-A09A-E46154664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steroid, choleste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und in cell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recursor for some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782280" y="3151440"/>
            <a:ext cx="7215120" cy="2665800"/>
            <a:chOff x="782280" y="3151440"/>
            <a:chExt cx="7215120" cy="2665800"/>
          </a:xfrm>
        </p:grpSpPr>
        <p:grpSp>
          <p:nvGrpSpPr>
            <p:cNvPr id="1082" name=""/>
            <p:cNvGrpSpPr/>
            <p:nvPr/>
          </p:nvGrpSpPr>
          <p:grpSpPr>
            <a:xfrm>
              <a:off x="2374560" y="3151440"/>
              <a:ext cx="5622840" cy="2639880"/>
              <a:chOff x="2374560" y="3151440"/>
              <a:chExt cx="5622840" cy="2639880"/>
            </a:xfrm>
          </p:grpSpPr>
          <p:pic>
            <p:nvPicPr>
              <p:cNvPr id="10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21240" y="3341520"/>
                <a:ext cx="4876560" cy="238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4" name=""/>
              <p:cNvSpPr/>
              <p:nvPr/>
            </p:nvSpPr>
            <p:spPr>
              <a:xfrm>
                <a:off x="2374560" y="55162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702600" y="446580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950360" y="375120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791600" y="315144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22200" y="320688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544160" y="368460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782280" y="55116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7587-CD84-413A-8D96-E3C6A5CF4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5.4: Proteins have many structures, resulting in a wide range of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many roles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4BBD-34C3-49C6-A7E3-BDCA0390D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verview of protein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163080" y="1689120"/>
            <a:ext cx="8676000" cy="4356360"/>
            <a:chOff x="163080" y="1689120"/>
            <a:chExt cx="8676000" cy="4356360"/>
          </a:xfrm>
        </p:grpSpPr>
        <p:pic>
          <p:nvPicPr>
            <p:cNvPr id="1098" name="" descr=""/>
            <p:cNvPicPr/>
            <p:nvPr/>
          </p:nvPicPr>
          <p:blipFill>
            <a:blip r:embed="rId1"/>
            <a:stretch/>
          </p:blipFill>
          <p:spPr>
            <a:xfrm>
              <a:off x="1143000" y="1689120"/>
              <a:ext cx="7696080" cy="43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163080" y="5739840"/>
              <a:ext cx="94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5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3AD6-98E4-49ED-AD2D-7A7681684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 type of protein that acts as a catalyst, speeding up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80600" y="2323440"/>
            <a:ext cx="8406720" cy="4242960"/>
            <a:chOff x="480600" y="2323440"/>
            <a:chExt cx="8406720" cy="4242960"/>
          </a:xfrm>
        </p:grpSpPr>
        <p:grpSp>
          <p:nvGrpSpPr>
            <p:cNvPr id="1104" name=""/>
            <p:cNvGrpSpPr/>
            <p:nvPr/>
          </p:nvGrpSpPr>
          <p:grpSpPr>
            <a:xfrm>
              <a:off x="1841040" y="2323440"/>
              <a:ext cx="7046280" cy="4211280"/>
              <a:chOff x="1841040" y="2323440"/>
              <a:chExt cx="7046280" cy="4211280"/>
            </a:xfrm>
          </p:grpSpPr>
          <p:grpSp>
            <p:nvGrpSpPr>
              <p:cNvPr id="1105" name=""/>
              <p:cNvGrpSpPr/>
              <p:nvPr/>
            </p:nvGrpSpPr>
            <p:grpSpPr>
              <a:xfrm>
                <a:off x="1876320" y="2323440"/>
                <a:ext cx="7011000" cy="4211280"/>
                <a:chOff x="1876320" y="2323440"/>
                <a:chExt cx="7011000" cy="4211280"/>
              </a:xfrm>
            </p:grpSpPr>
            <p:grpSp>
              <p:nvGrpSpPr>
                <p:cNvPr id="1106" name=""/>
                <p:cNvGrpSpPr/>
                <p:nvPr/>
              </p:nvGrpSpPr>
              <p:grpSpPr>
                <a:xfrm>
                  <a:off x="1876320" y="2323440"/>
                  <a:ext cx="7011000" cy="4211280"/>
                  <a:chOff x="1876320" y="2323440"/>
                  <a:chExt cx="7011000" cy="4211280"/>
                </a:xfrm>
              </p:grpSpPr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1876320" y="2323440"/>
                    <a:ext cx="7011000" cy="4211280"/>
                    <a:chOff x="1876320" y="2323440"/>
                    <a:chExt cx="7011000" cy="4211280"/>
                  </a:xfrm>
                </p:grpSpPr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2460240" y="2394000"/>
                      <a:ext cx="221760" cy="22356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34920">
                      <a:solidFill>
                        <a:srgbClr val="0098d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09" name=""/>
                    <p:cNvGrpSpPr/>
                    <p:nvPr/>
                  </p:nvGrpSpPr>
                  <p:grpSpPr>
                    <a:xfrm>
                      <a:off x="1876320" y="2323440"/>
                      <a:ext cx="7011000" cy="4211280"/>
                      <a:chOff x="1876320" y="2323440"/>
                      <a:chExt cx="7011000" cy="4211280"/>
                    </a:xfrm>
                  </p:grpSpPr>
                  <p:grpSp>
                    <p:nvGrpSpPr>
                      <p:cNvPr id="1110" name=""/>
                      <p:cNvGrpSpPr/>
                      <p:nvPr/>
                    </p:nvGrpSpPr>
                    <p:grpSpPr>
                      <a:xfrm>
                        <a:off x="1876320" y="2458800"/>
                        <a:ext cx="7011000" cy="4075920"/>
                        <a:chOff x="1876320" y="2458800"/>
                        <a:chExt cx="7011000" cy="4075920"/>
                      </a:xfrm>
                    </p:grpSpPr>
                    <p:pic>
                      <p:nvPicPr>
                        <p:cNvPr id="1111" name="" descr=""/>
                        <p:cNvPicPr/>
                        <p:nvPr/>
                      </p:nvPicPr>
                      <p:blipFill>
                        <a:blip r:embed="rId1"/>
                        <a:stretch/>
                      </p:blipFill>
                      <p:spPr>
                        <a:xfrm>
                          <a:off x="2758680" y="2458800"/>
                          <a:ext cx="4630320" cy="3459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1112" name=""/>
                        <p:cNvSpPr/>
                        <p:nvPr/>
                      </p:nvSpPr>
                      <p:spPr>
                        <a:xfrm>
                          <a:off x="5250960" y="2682720"/>
                          <a:ext cx="863280" cy="457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Substrate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sucrose)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3" name=""/>
                        <p:cNvSpPr/>
                        <p:nvPr/>
                      </p:nvSpPr>
                      <p:spPr>
                        <a:xfrm>
                          <a:off x="4355640" y="4076640"/>
                          <a:ext cx="863280" cy="457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Enzyme 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sucrase)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4" name=""/>
                        <p:cNvSpPr/>
                        <p:nvPr/>
                      </p:nvSpPr>
                      <p:spPr>
                        <a:xfrm>
                          <a:off x="4350960" y="3909960"/>
                          <a:ext cx="166320" cy="3888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1800" rIns="91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5" name=""/>
                        <p:cNvSpPr/>
                        <p:nvPr/>
                      </p:nvSpPr>
                      <p:spPr>
                        <a:xfrm>
                          <a:off x="2551320" y="3846240"/>
                          <a:ext cx="74592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Glucose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6" name=""/>
                        <p:cNvSpPr/>
                        <p:nvPr/>
                      </p:nvSpPr>
                      <p:spPr>
                        <a:xfrm>
                          <a:off x="3229560" y="4332240"/>
                          <a:ext cx="4136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OH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7" name=""/>
                        <p:cNvSpPr/>
                        <p:nvPr/>
                      </p:nvSpPr>
                      <p:spPr>
                        <a:xfrm>
                          <a:off x="2999520" y="4995720"/>
                          <a:ext cx="49896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H  </a:t>
                          </a: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8" name=""/>
                        <p:cNvSpPr/>
                        <p:nvPr/>
                      </p:nvSpPr>
                      <p:spPr>
                        <a:xfrm>
                          <a:off x="6946920" y="4406760"/>
                          <a:ext cx="462240" cy="299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H</a:t>
                          </a:r>
                          <a:r>
                            <a:rPr b="1" lang="en-US" sz="1200" spc="-1" strike="noStrike" baseline="-25000">
                              <a:solidFill>
                                <a:srgbClr val="ffffff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12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>
                          <a:off x="3307680" y="4663800"/>
                          <a:ext cx="77940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Fructose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1876320" y="6041880"/>
                          <a:ext cx="223560" cy="22392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34920">
                          <a:solidFill>
                            <a:srgbClr val="0098d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1800" rIns="91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1" name=""/>
                        <p:cNvSpPr/>
                        <p:nvPr/>
                      </p:nvSpPr>
                      <p:spPr>
                        <a:xfrm>
                          <a:off x="6705000" y="6051600"/>
                          <a:ext cx="222120" cy="22212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34920">
                          <a:solidFill>
                            <a:srgbClr val="0098d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1800" rIns="91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2" name=""/>
                        <p:cNvSpPr/>
                        <p:nvPr/>
                      </p:nvSpPr>
                      <p:spPr>
                        <a:xfrm>
                          <a:off x="6672240" y="6015960"/>
                          <a:ext cx="2215080" cy="518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3</a:t>
                          </a:r>
                          <a:r>
                            <a:rPr b="0" lang="en-US" sz="14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 Substrate is converted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o products.          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2154600" y="2339280"/>
                        <a:ext cx="2989080" cy="731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1  </a:t>
                        </a: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Active site is available for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    </a:t>
                        </a: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 molecule of substrate, the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actant on which the enzyme acts.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4" name=""/>
                      <p:cNvSpPr/>
                      <p:nvPr/>
                    </p:nvSpPr>
                    <p:spPr>
                      <a:xfrm>
                        <a:off x="6613920" y="2323440"/>
                        <a:ext cx="1777680" cy="518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   </a:t>
                        </a: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Substrate binds to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nzyme.          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25" name=""/>
                  <p:cNvSpPr/>
                  <p:nvPr/>
                </p:nvSpPr>
                <p:spPr>
                  <a:xfrm>
                    <a:off x="6564600" y="2342880"/>
                    <a:ext cx="284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6584400" y="2378160"/>
                  <a:ext cx="222120" cy="222120"/>
                </a:xfrm>
                <a:prstGeom prst="ellipse">
                  <a:avLst/>
                </a:prstGeom>
                <a:solidFill>
                  <a:srgbClr val="0000ff"/>
                </a:solidFill>
                <a:ln w="34920">
                  <a:solidFill>
                    <a:srgbClr val="0098d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577560" y="2342880"/>
                  <a:ext cx="284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1841040" y="6003360"/>
                <a:ext cx="22334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Products are released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480600" y="626076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BBF9-3983-480A-8A37-C8AFBAE6A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lypeptid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pept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olymers of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e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one or more polypep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D92F-213F-4578-A818-DC821F46A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mino Acid Mono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organic molecules possessing both carboxyl and amino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 in their properties due to differing side chains, called 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D1EB-F817-495F-8DF2-9AA44A3B8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5.1: Most macromolecules are polymers, built from mono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of the classes of life’s organic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molecules are poly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93A7-D3CA-40A5-ABE7-C6AED60E2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fferent amino acids make up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0" y="1359000"/>
            <a:ext cx="9147240" cy="4966200"/>
            <a:chOff x="0" y="1359000"/>
            <a:chExt cx="9147240" cy="4966200"/>
          </a:xfrm>
        </p:grpSpPr>
        <p:pic>
          <p:nvPicPr>
            <p:cNvPr id="1140" name="" descr=""/>
            <p:cNvPicPr/>
            <p:nvPr/>
          </p:nvPicPr>
          <p:blipFill>
            <a:blip r:embed="rId1"/>
            <a:stretch/>
          </p:blipFill>
          <p:spPr>
            <a:xfrm>
              <a:off x="0" y="1359000"/>
              <a:ext cx="9147240" cy="46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"/>
            <p:cNvSpPr/>
            <p:nvPr/>
          </p:nvSpPr>
          <p:spPr>
            <a:xfrm>
              <a:off x="8746560" y="420516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753400" y="4614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60560" y="22464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376280" y="2524680"/>
              <a:ext cx="568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955880" y="2540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232000" y="25351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56640" y="23194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44760" y="27417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959120" y="2846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481560" y="2235960"/>
              <a:ext cx="4600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921040" y="2516760"/>
              <a:ext cx="568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484440" y="2543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492360" y="2846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72080" y="2550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98160" y="232236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02120" y="274968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00600" y="2015280"/>
              <a:ext cx="460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80120" y="2037600"/>
              <a:ext cx="460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048280" y="2256480"/>
              <a:ext cx="460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68800" y="2533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37000" y="2540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69920" y="232416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553000" y="27417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76720" y="2857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568760" y="25246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639120" y="199548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34240" y="175320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48480" y="225792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85120" y="2544840"/>
              <a:ext cx="417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53160" y="2857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124680" y="25264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35720" y="175644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232840" y="168516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236080" y="198504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196120" y="226836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164440" y="254160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172360" y="285768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738920" y="2539080"/>
              <a:ext cx="4701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448840" y="2552760"/>
              <a:ext cx="417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947960" y="375516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52640" y="433152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952640" y="460440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928880" y="4896000"/>
              <a:ext cx="336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376280" y="4872600"/>
              <a:ext cx="568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955880" y="51958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241720" y="48988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466360" y="46702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65280" y="50799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005360" y="459972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973680" y="4906800"/>
              <a:ext cx="336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436920" y="4880520"/>
              <a:ext cx="568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10040" y="5187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86160" y="49068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501440" y="46972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522680" y="507528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051600" y="4620240"/>
              <a:ext cx="5493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335640" y="4241880"/>
              <a:ext cx="568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67520" y="5207040"/>
              <a:ext cx="19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114960" y="4915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604920" y="470520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635880" y="5091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573880" y="4896360"/>
              <a:ext cx="5490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404040" y="4915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64640" y="3910680"/>
              <a:ext cx="5490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675560" y="4131360"/>
              <a:ext cx="423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43880" y="4431240"/>
              <a:ext cx="423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245440" y="4429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226360" y="413460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240760" y="4754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521560" y="4421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82600" y="3267000"/>
              <a:ext cx="74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npol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636560" y="3027240"/>
              <a:ext cx="918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ine (Gl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96800" y="3030480"/>
              <a:ext cx="905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anine (Al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801680" y="3025800"/>
              <a:ext cx="835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ine (Va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334920" y="3025800"/>
              <a:ext cx="95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ucine (Leu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877160" y="3025800"/>
              <a:ext cx="1006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oleucine (I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28200" y="5416560"/>
              <a:ext cx="1131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thionine (M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64000" y="5408640"/>
              <a:ext cx="1320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enylalanine (Ph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61240" y="254484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083360" y="232560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116840" y="275112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37680" y="5416560"/>
              <a:ext cx="1136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yptophan (Tr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016120" y="5411880"/>
              <a:ext cx="89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line (Pr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80320" y="224856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160" y="601956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968120" y="404820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36840" y="235908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751960" y="273060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6F9E-A72B-4D29-BA59-30E083753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"/>
          <p:cNvGrpSpPr/>
          <p:nvPr/>
        </p:nvGrpSpPr>
        <p:grpSpPr>
          <a:xfrm>
            <a:off x="533520" y="888840"/>
            <a:ext cx="7993080" cy="5291280"/>
            <a:chOff x="533520" y="888840"/>
            <a:chExt cx="7993080" cy="5291280"/>
          </a:xfrm>
        </p:grpSpPr>
        <p:pic>
          <p:nvPicPr>
            <p:cNvPr id="1231" name="" descr=""/>
            <p:cNvPicPr/>
            <p:nvPr/>
          </p:nvPicPr>
          <p:blipFill>
            <a:blip r:embed="rId1"/>
            <a:stretch/>
          </p:blipFill>
          <p:spPr>
            <a:xfrm>
              <a:off x="533520" y="888840"/>
              <a:ext cx="79326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>
              <a:off x="8056440" y="236844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123640" y="171936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128680" y="195480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124000" y="2216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374920" y="22208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125800" y="24638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57440" y="219636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39440" y="20368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62120" y="238428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35360" y="220572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24360" y="177480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395520" y="1757880"/>
              <a:ext cx="4701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228840" y="196380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287880" y="22129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529080" y="22208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84640" y="24652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733920" y="238608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725280" y="20368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22880" y="171936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338720" y="196272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72120" y="222084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275000" y="246852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97360" y="22024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11520" y="222084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703760" y="203184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748040" y="236844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89600" y="221832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361120" y="222408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97640" y="223200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1969200"/>
              <a:ext cx="4701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397480" y="124128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70480" y="248112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48400" y="247320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567560" y="246528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164280" y="21898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480000" y="1494360"/>
              <a:ext cx="4701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608880" y="194544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750000" y="1530360"/>
              <a:ext cx="412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45160" y="170352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540480" y="220500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781680" y="220032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058160" y="2016000"/>
              <a:ext cx="304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070760" y="2373480"/>
              <a:ext cx="380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523280" y="125964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764480" y="1285920"/>
              <a:ext cx="41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570800" y="148284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643880" y="171684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43880" y="19612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72240" y="220824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819920" y="221292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1600" y="21898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4200" y="203976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38840" y="237636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012160" y="203184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83000" y="1785960"/>
              <a:ext cx="567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240" y="4181400"/>
              <a:ext cx="99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tric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d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08080" y="38606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390040" y="38606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201760" y="4049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205000" y="428688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205000" y="45435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446200" y="4538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720800" y="453600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197080" y="48657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636280" y="43498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654280" y="4695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324240" y="3854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690360" y="385452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502080" y="4043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505320" y="428040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513240" y="47671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54440" y="47862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044880" y="476460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513240" y="5051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944160" y="45896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962520" y="493560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508200" y="451548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284800" y="425196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280120" y="450288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278320" y="401076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305320" y="3774240"/>
              <a:ext cx="4827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9480" y="474264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278320" y="4998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527800" y="50022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818240" y="499644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286240" y="5267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09600" y="482112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27600" y="51674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467400" y="3783600"/>
              <a:ext cx="4827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461280" y="4049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9240" y="4034520"/>
              <a:ext cx="4827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456240" y="427896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51560" y="452988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461280" y="476964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58040" y="52484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707160" y="52513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997600" y="524592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65960" y="5516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88960" y="507060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07320" y="54165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461280" y="500112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799400" y="3797280"/>
              <a:ext cx="482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761240" y="4121280"/>
              <a:ext cx="482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650000" y="429480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564320" y="455436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812000" y="454644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183440" y="453780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651800" y="4808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74800" y="43624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093160" y="47084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756800" y="273204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ine (S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843640" y="2732040"/>
              <a:ext cx="1245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reonine (Th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85640" y="26352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stein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y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221080" y="2627280"/>
              <a:ext cx="770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yros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Ty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426720" y="2631960"/>
              <a:ext cx="959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parag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383960" y="2610000"/>
              <a:ext cx="881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tam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Gl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16217400">
              <a:off x="2961360" y="2807280"/>
              <a:ext cx="76320" cy="20271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2560 h 2027160"/>
                <a:gd name="textAreaBottom" fmla="*/ 1974600 h 20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40"/>
                  </a:lnTo>
                  <a:cubicBezTo>
                    <a:pt x="10800" y="9640"/>
                    <a:pt x="16200" y="10540"/>
                    <a:pt x="21600" y="10540"/>
                  </a:cubicBezTo>
                  <a:cubicBezTo>
                    <a:pt x="16200" y="10540"/>
                    <a:pt x="10800" y="11440"/>
                    <a:pt x="10800" y="1234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676600" y="3460680"/>
              <a:ext cx="591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id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16217400">
              <a:off x="6765120" y="2261160"/>
              <a:ext cx="76320" cy="29700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7400 h 2970000"/>
                <a:gd name="textAreaBottom" fmla="*/ 2892600 h 29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40"/>
                  </a:lnTo>
                  <a:cubicBezTo>
                    <a:pt x="10800" y="9640"/>
                    <a:pt x="16200" y="10540"/>
                    <a:pt x="21600" y="10540"/>
                  </a:cubicBezTo>
                  <a:cubicBezTo>
                    <a:pt x="16200" y="10540"/>
                    <a:pt x="10800" y="11440"/>
                    <a:pt x="10800" y="1234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490080" y="3408480"/>
              <a:ext cx="55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674000" y="5648400"/>
              <a:ext cx="1102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partic aci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972520" y="5645160"/>
              <a:ext cx="1152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tamic aci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Gl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926960" y="562932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ysine (Ly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66000" y="5637240"/>
              <a:ext cx="1126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ginine (Ar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336800" y="5629320"/>
              <a:ext cx="1132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stidine (H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3C4E-8EA7-4131-8868-BE9E8B8E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mino Acid Poly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inked by peptid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395600" y="1866960"/>
            <a:ext cx="41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1" name=""/>
          <p:cNvGrpSpPr/>
          <p:nvPr/>
        </p:nvGrpSpPr>
        <p:grpSpPr>
          <a:xfrm>
            <a:off x="1295280" y="1984320"/>
            <a:ext cx="6477120" cy="4467600"/>
            <a:chOff x="1295280" y="1984320"/>
            <a:chExt cx="6477120" cy="4467600"/>
          </a:xfrm>
        </p:grpSpPr>
        <p:sp>
          <p:nvSpPr>
            <p:cNvPr id="1362" name=""/>
            <p:cNvSpPr/>
            <p:nvPr/>
          </p:nvSpPr>
          <p:spPr>
            <a:xfrm>
              <a:off x="5948280" y="3389400"/>
              <a:ext cx="18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SMOS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609560" y="4327560"/>
              <a:ext cx="182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SMOS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295280" y="4456080"/>
              <a:ext cx="18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SMOS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5" name="" descr=""/>
            <p:cNvPicPr/>
            <p:nvPr/>
          </p:nvPicPr>
          <p:blipFill>
            <a:blip r:embed="rId1"/>
            <a:stretch/>
          </p:blipFill>
          <p:spPr>
            <a:xfrm>
              <a:off x="3308400" y="2085840"/>
              <a:ext cx="3022560" cy="39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6" name=""/>
            <p:cNvSpPr/>
            <p:nvPr/>
          </p:nvSpPr>
          <p:spPr>
            <a:xfrm>
              <a:off x="3569760" y="23572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557520" y="2630520"/>
              <a:ext cx="4636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584160" y="3144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3255840" y="3155760"/>
              <a:ext cx="465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17760" y="288432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08080" y="3144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587400" y="3395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16000" y="34084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106440" y="3144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882680" y="31449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243120" y="31449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795840" y="1984320"/>
              <a:ext cx="704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pti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674960" y="411012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865320" y="46116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982840" y="53895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124160" y="289224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23040" y="2897280"/>
              <a:ext cx="372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681520" y="340848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370400" y="340848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168880" y="314496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9160" y="5400720"/>
              <a:ext cx="372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584520" y="5146560"/>
              <a:ext cx="37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30760" y="564192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414680" y="5138640"/>
              <a:ext cx="37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46520" y="562932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459400" y="5661000"/>
              <a:ext cx="37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26120" y="513864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13520" y="5400720"/>
              <a:ext cx="372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124160" y="314496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29160" y="315432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584520" y="538596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408560" y="5410080"/>
              <a:ext cx="369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462640" y="461016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51560" y="4503600"/>
              <a:ext cx="942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de ch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64240" y="2362320"/>
              <a:ext cx="533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977080" y="3408480"/>
              <a:ext cx="371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606920" y="340848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068720" y="564984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883040" y="564984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692680" y="566100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87840" y="3777480"/>
              <a:ext cx="460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397400" y="2630520"/>
              <a:ext cx="461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6440" y="2630520"/>
              <a:ext cx="4636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863880" y="4884840"/>
              <a:ext cx="461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680000" y="4884840"/>
              <a:ext cx="4636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97560" y="4872240"/>
              <a:ext cx="4636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70000" y="53974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103280" y="5398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677840" y="54007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912920" y="5398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90720" y="5398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30480" y="5398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711400" y="3144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008400" y="31417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08200" y="3144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641480" y="31417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954680" y="4694400"/>
              <a:ext cx="704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pti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537360" y="598788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N-terminu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389640" y="5168880"/>
              <a:ext cx="125640" cy="754200"/>
            </a:xfrm>
            <a:custGeom>
              <a:avLst/>
              <a:gdLst>
                <a:gd name="textAreaLeft" fmla="*/ 0 w 125640"/>
                <a:gd name="textAreaRight" fmla="*/ 45360 w 125640"/>
                <a:gd name="textAreaTop" fmla="*/ 19440 h 754200"/>
                <a:gd name="textAreaBottom" fmla="*/ 73476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389640" y="4351320"/>
              <a:ext cx="125640" cy="754200"/>
            </a:xfrm>
            <a:custGeom>
              <a:avLst/>
              <a:gdLst>
                <a:gd name="textAreaLeft" fmla="*/ 0 w 125640"/>
                <a:gd name="textAreaRight" fmla="*/ 45360 w 125640"/>
                <a:gd name="textAreaTop" fmla="*/ 19440 h 754200"/>
                <a:gd name="textAreaBottom" fmla="*/ 73476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407280" y="5411880"/>
              <a:ext cx="944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994120" y="3713040"/>
              <a:ext cx="372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669680" y="61336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083400" y="6146640"/>
              <a:ext cx="421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938120" y="5994360"/>
              <a:ext cx="1085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boxyl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-terminu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C30E-FCD3-4F9D-99B0-28C7F25DF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33399"/>
                </a:solidFill>
                <a:latin typeface="Times New Roman"/>
              </a:rPr>
              <a:t>Determining the Amino Acid Sequence of a Polypeptide</a:t>
            </a:r>
            <a:endParaRPr b="1" lang="en-US" sz="2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mino acid sequences of polypept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first determined using chemical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w be determined by automated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469F-C18B-4522-AAD8-A0E0DFE0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tein Conformation and Fun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ein’s specific co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how i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EC5E-CFEE-42BE-B4D0-318FA06DE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models of protein co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1884960" y="1293840"/>
            <a:ext cx="5544720" cy="5196240"/>
            <a:chOff x="1884960" y="1293840"/>
            <a:chExt cx="5544720" cy="5196240"/>
          </a:xfrm>
        </p:grpSpPr>
        <p:grpSp>
          <p:nvGrpSpPr>
            <p:cNvPr id="1441" name=""/>
            <p:cNvGrpSpPr/>
            <p:nvPr/>
          </p:nvGrpSpPr>
          <p:grpSpPr>
            <a:xfrm>
              <a:off x="3569040" y="1293840"/>
              <a:ext cx="3860640" cy="5196240"/>
              <a:chOff x="3569040" y="1293840"/>
              <a:chExt cx="3860640" cy="5196240"/>
            </a:xfrm>
          </p:grpSpPr>
          <p:pic>
            <p:nvPicPr>
              <p:cNvPr id="14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19960" y="1293840"/>
                <a:ext cx="3257280" cy="490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3" name=""/>
              <p:cNvSpPr/>
              <p:nvPr/>
            </p:nvSpPr>
            <p:spPr>
              <a:xfrm>
                <a:off x="3619800" y="3593880"/>
                <a:ext cx="193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ribbo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569040" y="6184440"/>
                <a:ext cx="2519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A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pace-filling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591520" y="2300040"/>
                <a:ext cx="1565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roo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862960" y="5229000"/>
                <a:ext cx="156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roo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7" name=""/>
            <p:cNvSpPr/>
            <p:nvPr/>
          </p:nvSpPr>
          <p:spPr>
            <a:xfrm>
              <a:off x="1884960" y="61844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716B-30FE-40D5-AD0A-3709AFCF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Four Levels of Protein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y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unique sequence of amino acids in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3068280" y="2070360"/>
            <a:ext cx="3548520" cy="4410360"/>
            <a:chOff x="3068280" y="2070360"/>
            <a:chExt cx="3548520" cy="4410360"/>
          </a:xfrm>
        </p:grpSpPr>
        <p:sp>
          <p:nvSpPr>
            <p:cNvPr id="1452" name=""/>
            <p:cNvSpPr/>
            <p:nvPr/>
          </p:nvSpPr>
          <p:spPr>
            <a:xfrm>
              <a:off x="3068280" y="61750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033880" y="5892840"/>
              <a:ext cx="48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244120" y="6018120"/>
              <a:ext cx="23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73600" y="2149560"/>
              <a:ext cx="943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 subun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6" name="" descr=""/>
            <p:cNvPicPr/>
            <p:nvPr/>
          </p:nvPicPr>
          <p:blipFill>
            <a:blip r:embed="rId1"/>
            <a:stretch/>
          </p:blipFill>
          <p:spPr>
            <a:xfrm>
              <a:off x="4516560" y="2111400"/>
              <a:ext cx="799920" cy="40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7" name=""/>
            <p:cNvSpPr/>
            <p:nvPr/>
          </p:nvSpPr>
          <p:spPr>
            <a:xfrm>
              <a:off x="3733920" y="2070360"/>
              <a:ext cx="88416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25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199120" y="603900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82360" y="6124680"/>
              <a:ext cx="1085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boxyl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97320" y="588492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4398840" y="2176200"/>
              <a:ext cx="35424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165640" y="2241720"/>
              <a:ext cx="5302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5224320" y="2320920"/>
              <a:ext cx="47160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110920" y="59659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690080" y="209988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70000" y="208260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851720" y="208260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932720" y="210132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989960" y="216828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028120" y="224424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028120" y="23396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948200" y="2379240"/>
              <a:ext cx="2736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872600" y="2390400"/>
              <a:ext cx="2642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784400" y="2393640"/>
              <a:ext cx="2736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714560" y="24062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634280" y="242856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567680" y="248400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511160" y="254448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469400" y="2619000"/>
              <a:ext cx="2642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470120" y="271260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516920" y="277776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591800" y="2811240"/>
              <a:ext cx="271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74960" y="284904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47680" y="285876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28680" y="28490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908960" y="287136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79520" y="290808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043240" y="29588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94000" y="302688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86680" y="463680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83080" y="4725720"/>
              <a:ext cx="2336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01800" y="480168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578120" y="483192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54440" y="4849560"/>
              <a:ext cx="2736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741560" y="485748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18600" y="48668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900320" y="488592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59000" y="495252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31280" y="504000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71520" y="510192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95560" y="513036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708440" y="5130360"/>
              <a:ext cx="2736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629600" y="512712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551120" y="513828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68680" y="5176440"/>
              <a:ext cx="271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s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47440" y="5268600"/>
              <a:ext cx="271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93880" y="53366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561200" y="539244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640040" y="538272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14560" y="534780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790880" y="530496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860000" y="527796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940640" y="524304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030640" y="5209920"/>
              <a:ext cx="2336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082840" y="526860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116320" y="534168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102640" y="542880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072400" y="551772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017680" y="55796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941360" y="561456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60000" y="563364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787640" y="565596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707360" y="568296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624200" y="568908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546800" y="571140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05760" y="578916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20880" y="587484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44640" y="595440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06560" y="600840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675680" y="604476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745160" y="6070320"/>
              <a:ext cx="271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s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31920" y="605268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908960" y="6024240"/>
              <a:ext cx="2642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985280" y="600840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864320" y="436068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24800" y="4420800"/>
              <a:ext cx="2642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951080" y="45050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885200" y="455904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804920" y="457020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p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718520" y="4576320"/>
              <a:ext cx="2642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46160" y="459216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559760" y="460512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23120" y="429372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705200" y="4306680"/>
              <a:ext cx="250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82240" y="4322520"/>
              <a:ext cx="271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678B-06D1-47F6-87B0-13A7FCC6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"/>
          <p:cNvGrpSpPr/>
          <p:nvPr/>
        </p:nvGrpSpPr>
        <p:grpSpPr>
          <a:xfrm>
            <a:off x="533520" y="3134880"/>
            <a:ext cx="8348400" cy="3189600"/>
            <a:chOff x="533520" y="3134880"/>
            <a:chExt cx="8348400" cy="3189600"/>
          </a:xfrm>
        </p:grpSpPr>
        <p:grpSp>
          <p:nvGrpSpPr>
            <p:cNvPr id="1548" name=""/>
            <p:cNvGrpSpPr/>
            <p:nvPr/>
          </p:nvGrpSpPr>
          <p:grpSpPr>
            <a:xfrm>
              <a:off x="609480" y="3316320"/>
              <a:ext cx="5261040" cy="2784600"/>
              <a:chOff x="609480" y="3316320"/>
              <a:chExt cx="5261040" cy="2784600"/>
            </a:xfrm>
          </p:grpSpPr>
          <p:grpSp>
            <p:nvGrpSpPr>
              <p:cNvPr id="1549" name=""/>
              <p:cNvGrpSpPr/>
              <p:nvPr/>
            </p:nvGrpSpPr>
            <p:grpSpPr>
              <a:xfrm>
                <a:off x="609480" y="3316320"/>
                <a:ext cx="5261040" cy="2784600"/>
                <a:chOff x="609480" y="3316320"/>
                <a:chExt cx="5261040" cy="2784600"/>
              </a:xfrm>
            </p:grpSpPr>
            <p:pic>
              <p:nvPicPr>
                <p:cNvPr id="155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09480" y="3316320"/>
                  <a:ext cx="5261040" cy="278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1" name=""/>
                <p:cNvSpPr/>
                <p:nvPr/>
              </p:nvSpPr>
              <p:spPr>
                <a:xfrm>
                  <a:off x="610560" y="5257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793080" y="5257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"/>
              <p:cNvSpPr/>
              <p:nvPr/>
            </p:nvSpPr>
            <p:spPr>
              <a:xfrm>
                <a:off x="2914560" y="5187240"/>
                <a:ext cx="754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eli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838080" y="313488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eated she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853560" y="3787920"/>
              <a:ext cx="551160" cy="9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1405080" y="3349440"/>
              <a:ext cx="1250640" cy="43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33520" y="3505320"/>
              <a:ext cx="974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un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491920" y="3662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349000" y="3703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523600" y="379764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642760" y="3548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85520" y="338292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785680" y="3540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2120" y="35766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00160" y="340704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055680" y="3675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090600" y="38116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8" name=""/>
            <p:cNvGrpSpPr/>
            <p:nvPr/>
          </p:nvGrpSpPr>
          <p:grpSpPr>
            <a:xfrm>
              <a:off x="3142800" y="3508200"/>
              <a:ext cx="338760" cy="664920"/>
              <a:chOff x="3142800" y="3508200"/>
              <a:chExt cx="338760" cy="664920"/>
            </a:xfrm>
          </p:grpSpPr>
          <p:sp>
            <p:nvSpPr>
              <p:cNvPr id="1569" name=""/>
              <p:cNvSpPr/>
              <p:nvPr/>
            </p:nvSpPr>
            <p:spPr>
              <a:xfrm>
                <a:off x="3223440" y="38372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42800" y="35082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69800" y="36817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3319200" y="3649680"/>
              <a:ext cx="285120" cy="473040"/>
              <a:chOff x="3319200" y="3649680"/>
              <a:chExt cx="285120" cy="473040"/>
            </a:xfrm>
          </p:grpSpPr>
          <p:sp>
            <p:nvSpPr>
              <p:cNvPr id="1573" name=""/>
              <p:cNvSpPr/>
              <p:nvPr/>
            </p:nvSpPr>
            <p:spPr>
              <a:xfrm>
                <a:off x="3319200" y="36496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46200" y="37868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3413160" y="3376440"/>
              <a:ext cx="295560" cy="393480"/>
              <a:chOff x="3413160" y="3376440"/>
              <a:chExt cx="295560" cy="393480"/>
            </a:xfrm>
          </p:grpSpPr>
          <p:sp>
            <p:nvSpPr>
              <p:cNvPr id="1576" name=""/>
              <p:cNvSpPr/>
              <p:nvPr/>
            </p:nvSpPr>
            <p:spPr>
              <a:xfrm>
                <a:off x="3450600" y="35557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413160" y="337644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3569760" y="3345120"/>
              <a:ext cx="334080" cy="583920"/>
              <a:chOff x="3569760" y="3345120"/>
              <a:chExt cx="334080" cy="583920"/>
            </a:xfrm>
          </p:grpSpPr>
          <p:sp>
            <p:nvSpPr>
              <p:cNvPr id="1579" name=""/>
              <p:cNvSpPr/>
              <p:nvPr/>
            </p:nvSpPr>
            <p:spPr>
              <a:xfrm>
                <a:off x="3569760" y="33451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03960" y="35557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645720" y="37148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3719160" y="3403800"/>
              <a:ext cx="280080" cy="376200"/>
              <a:chOff x="3719160" y="3403800"/>
              <a:chExt cx="280080" cy="376200"/>
            </a:xfrm>
          </p:grpSpPr>
          <p:sp>
            <p:nvSpPr>
              <p:cNvPr id="1583" name=""/>
              <p:cNvSpPr/>
              <p:nvPr/>
            </p:nvSpPr>
            <p:spPr>
              <a:xfrm>
                <a:off x="3741120" y="35658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19160" y="340380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>
              <a:off x="2761920" y="334512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833200" y="3714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3865320" y="3662280"/>
              <a:ext cx="307080" cy="369360"/>
              <a:chOff x="3865320" y="3662280"/>
              <a:chExt cx="307080" cy="369360"/>
            </a:xfrm>
          </p:grpSpPr>
          <p:sp>
            <p:nvSpPr>
              <p:cNvPr id="1588" name=""/>
              <p:cNvSpPr/>
              <p:nvPr/>
            </p:nvSpPr>
            <p:spPr>
              <a:xfrm>
                <a:off x="3865320" y="36622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908160" y="381744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3952440" y="3507120"/>
              <a:ext cx="329760" cy="663120"/>
              <a:chOff x="3952440" y="3507120"/>
              <a:chExt cx="329760" cy="663120"/>
            </a:xfrm>
          </p:grpSpPr>
          <p:sp>
            <p:nvSpPr>
              <p:cNvPr id="1591" name=""/>
              <p:cNvSpPr/>
              <p:nvPr/>
            </p:nvSpPr>
            <p:spPr>
              <a:xfrm>
                <a:off x="3952440" y="35071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985920" y="36817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024080" y="38343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132080" y="3649680"/>
              <a:ext cx="285120" cy="469080"/>
              <a:chOff x="4132080" y="3649680"/>
              <a:chExt cx="285120" cy="469080"/>
            </a:xfrm>
          </p:grpSpPr>
          <p:sp>
            <p:nvSpPr>
              <p:cNvPr id="1595" name=""/>
              <p:cNvSpPr/>
              <p:nvPr/>
            </p:nvSpPr>
            <p:spPr>
              <a:xfrm>
                <a:off x="4132080" y="36496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159080" y="37828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4224240" y="3373200"/>
              <a:ext cx="290880" cy="390600"/>
              <a:chOff x="4224240" y="3373200"/>
              <a:chExt cx="290880" cy="390600"/>
            </a:xfrm>
          </p:grpSpPr>
          <p:sp>
            <p:nvSpPr>
              <p:cNvPr id="1598" name=""/>
              <p:cNvSpPr/>
              <p:nvPr/>
            </p:nvSpPr>
            <p:spPr>
              <a:xfrm>
                <a:off x="4257000" y="35496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224240" y="337320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0" name=""/>
            <p:cNvSpPr/>
            <p:nvPr/>
          </p:nvSpPr>
          <p:spPr>
            <a:xfrm>
              <a:off x="4522320" y="340704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551120" y="3571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2" name=""/>
            <p:cNvGrpSpPr/>
            <p:nvPr/>
          </p:nvGrpSpPr>
          <p:grpSpPr>
            <a:xfrm>
              <a:off x="4668480" y="3673440"/>
              <a:ext cx="305640" cy="355320"/>
              <a:chOff x="4668480" y="3673440"/>
              <a:chExt cx="305640" cy="355320"/>
            </a:xfrm>
          </p:grpSpPr>
          <p:sp>
            <p:nvSpPr>
              <p:cNvPr id="1603" name=""/>
              <p:cNvSpPr/>
              <p:nvPr/>
            </p:nvSpPr>
            <p:spPr>
              <a:xfrm>
                <a:off x="4668480" y="36734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709880" y="381456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4755600" y="3490920"/>
              <a:ext cx="329400" cy="664200"/>
              <a:chOff x="4755600" y="3490920"/>
              <a:chExt cx="329400" cy="664200"/>
            </a:xfrm>
          </p:grpSpPr>
          <p:sp>
            <p:nvSpPr>
              <p:cNvPr id="1606" name=""/>
              <p:cNvSpPr/>
              <p:nvPr/>
            </p:nvSpPr>
            <p:spPr>
              <a:xfrm>
                <a:off x="4755600" y="34909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788720" y="36655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826880" y="38192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4933440" y="3659040"/>
              <a:ext cx="285480" cy="469440"/>
              <a:chOff x="4933440" y="3659040"/>
              <a:chExt cx="285480" cy="469440"/>
            </a:xfrm>
          </p:grpSpPr>
          <p:sp>
            <p:nvSpPr>
              <p:cNvPr id="1610" name=""/>
              <p:cNvSpPr/>
              <p:nvPr/>
            </p:nvSpPr>
            <p:spPr>
              <a:xfrm>
                <a:off x="4933440" y="36590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960800" y="379260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4382640" y="3367080"/>
              <a:ext cx="329760" cy="561600"/>
              <a:chOff x="4382640" y="3367080"/>
              <a:chExt cx="329760" cy="561600"/>
            </a:xfrm>
          </p:grpSpPr>
          <p:sp>
            <p:nvSpPr>
              <p:cNvPr id="1613" name=""/>
              <p:cNvSpPr/>
              <p:nvPr/>
            </p:nvSpPr>
            <p:spPr>
              <a:xfrm>
                <a:off x="4382640" y="33670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407840" y="35560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454280" y="37144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5029200" y="3383280"/>
              <a:ext cx="294120" cy="390240"/>
              <a:chOff x="5029200" y="3383280"/>
              <a:chExt cx="294120" cy="390240"/>
            </a:xfrm>
          </p:grpSpPr>
          <p:sp>
            <p:nvSpPr>
              <p:cNvPr id="1617" name=""/>
              <p:cNvSpPr/>
              <p:nvPr/>
            </p:nvSpPr>
            <p:spPr>
              <a:xfrm>
                <a:off x="5065200" y="35593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029200" y="338328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2631600" y="4176720"/>
              <a:ext cx="313200" cy="379440"/>
              <a:chOff x="2631600" y="4176720"/>
              <a:chExt cx="313200" cy="379440"/>
            </a:xfrm>
          </p:grpSpPr>
          <p:sp>
            <p:nvSpPr>
              <p:cNvPr id="1620" name=""/>
              <p:cNvSpPr/>
              <p:nvPr/>
            </p:nvSpPr>
            <p:spPr>
              <a:xfrm>
                <a:off x="2686680" y="43419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631600" y="417672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2" name=""/>
            <p:cNvSpPr/>
            <p:nvPr/>
          </p:nvSpPr>
          <p:spPr>
            <a:xfrm>
              <a:off x="2560320" y="4502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2860200" y="4317840"/>
              <a:ext cx="283680" cy="472680"/>
              <a:chOff x="2860200" y="4317840"/>
              <a:chExt cx="283680" cy="472680"/>
            </a:xfrm>
          </p:grpSpPr>
          <p:sp>
            <p:nvSpPr>
              <p:cNvPr id="1624" name=""/>
              <p:cNvSpPr/>
              <p:nvPr/>
            </p:nvSpPr>
            <p:spPr>
              <a:xfrm>
                <a:off x="2860200" y="43178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885760" y="44546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2910960" y="4029120"/>
              <a:ext cx="339120" cy="664920"/>
              <a:chOff x="2910960" y="4029120"/>
              <a:chExt cx="339120" cy="664920"/>
            </a:xfrm>
          </p:grpSpPr>
          <p:sp>
            <p:nvSpPr>
              <p:cNvPr id="1627" name=""/>
              <p:cNvSpPr/>
              <p:nvPr/>
            </p:nvSpPr>
            <p:spPr>
              <a:xfrm>
                <a:off x="2991960" y="43581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910960" y="40291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937600" y="42015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3082320" y="4354560"/>
              <a:ext cx="303840" cy="367920"/>
              <a:chOff x="3082320" y="4354560"/>
              <a:chExt cx="303840" cy="367920"/>
            </a:xfrm>
          </p:grpSpPr>
          <p:sp>
            <p:nvSpPr>
              <p:cNvPr id="1631" name=""/>
              <p:cNvSpPr/>
              <p:nvPr/>
            </p:nvSpPr>
            <p:spPr>
              <a:xfrm>
                <a:off x="3082320" y="43545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121920" y="450828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3186720" y="4202640"/>
              <a:ext cx="279000" cy="376200"/>
              <a:chOff x="3186720" y="4202640"/>
              <a:chExt cx="279000" cy="376200"/>
            </a:xfrm>
          </p:grpSpPr>
          <p:sp>
            <p:nvSpPr>
              <p:cNvPr id="1634" name=""/>
              <p:cNvSpPr/>
              <p:nvPr/>
            </p:nvSpPr>
            <p:spPr>
              <a:xfrm>
                <a:off x="3207600" y="43646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186720" y="42026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"/>
            <p:cNvGrpSpPr/>
            <p:nvPr/>
          </p:nvGrpSpPr>
          <p:grpSpPr>
            <a:xfrm>
              <a:off x="3323520" y="4277520"/>
              <a:ext cx="332640" cy="583200"/>
              <a:chOff x="3323520" y="4277520"/>
              <a:chExt cx="332640" cy="583200"/>
            </a:xfrm>
          </p:grpSpPr>
          <p:sp>
            <p:nvSpPr>
              <p:cNvPr id="1637" name=""/>
              <p:cNvSpPr/>
              <p:nvPr/>
            </p:nvSpPr>
            <p:spPr>
              <a:xfrm>
                <a:off x="3323520" y="42775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355200" y="44899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398040" y="46465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0" name=""/>
            <p:cNvGrpSpPr/>
            <p:nvPr/>
          </p:nvGrpSpPr>
          <p:grpSpPr>
            <a:xfrm>
              <a:off x="3462120" y="4146480"/>
              <a:ext cx="297360" cy="392040"/>
              <a:chOff x="3462120" y="4146480"/>
              <a:chExt cx="297360" cy="392040"/>
            </a:xfrm>
          </p:grpSpPr>
          <p:sp>
            <p:nvSpPr>
              <p:cNvPr id="1641" name=""/>
              <p:cNvSpPr/>
              <p:nvPr/>
            </p:nvSpPr>
            <p:spPr>
              <a:xfrm>
                <a:off x="3501360" y="43243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462120" y="414648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3665160" y="4314960"/>
              <a:ext cx="285120" cy="473040"/>
              <a:chOff x="3665160" y="4314960"/>
              <a:chExt cx="285120" cy="473040"/>
            </a:xfrm>
          </p:grpSpPr>
          <p:sp>
            <p:nvSpPr>
              <p:cNvPr id="1644" name=""/>
              <p:cNvSpPr/>
              <p:nvPr/>
            </p:nvSpPr>
            <p:spPr>
              <a:xfrm>
                <a:off x="3665160" y="43149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692160" y="44521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3715920" y="3998880"/>
              <a:ext cx="330840" cy="664920"/>
              <a:chOff x="3715920" y="3998880"/>
              <a:chExt cx="330840" cy="664920"/>
            </a:xfrm>
          </p:grpSpPr>
          <p:sp>
            <p:nvSpPr>
              <p:cNvPr id="1647" name=""/>
              <p:cNvSpPr/>
              <p:nvPr/>
            </p:nvSpPr>
            <p:spPr>
              <a:xfrm>
                <a:off x="3715920" y="39988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749400" y="41752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788640" y="43279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3895560" y="4322880"/>
              <a:ext cx="306720" cy="371520"/>
              <a:chOff x="3895560" y="4322880"/>
              <a:chExt cx="306720" cy="371520"/>
            </a:xfrm>
          </p:grpSpPr>
          <p:sp>
            <p:nvSpPr>
              <p:cNvPr id="1651" name=""/>
              <p:cNvSpPr/>
              <p:nvPr/>
            </p:nvSpPr>
            <p:spPr>
              <a:xfrm>
                <a:off x="3895560" y="43228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938040" y="448020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4000320" y="4199400"/>
              <a:ext cx="278640" cy="376200"/>
              <a:chOff x="4000320" y="4199400"/>
              <a:chExt cx="278640" cy="376200"/>
            </a:xfrm>
          </p:grpSpPr>
          <p:sp>
            <p:nvSpPr>
              <p:cNvPr id="1654" name=""/>
              <p:cNvSpPr/>
              <p:nvPr/>
            </p:nvSpPr>
            <p:spPr>
              <a:xfrm>
                <a:off x="4020840" y="43614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000320" y="419940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4136760" y="4259160"/>
              <a:ext cx="334080" cy="583920"/>
              <a:chOff x="4136760" y="4259160"/>
              <a:chExt cx="334080" cy="583920"/>
            </a:xfrm>
          </p:grpSpPr>
          <p:sp>
            <p:nvSpPr>
              <p:cNvPr id="1657" name=""/>
              <p:cNvSpPr/>
              <p:nvPr/>
            </p:nvSpPr>
            <p:spPr>
              <a:xfrm>
                <a:off x="4136760" y="42591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171680" y="44704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212720" y="46288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4262400" y="4162320"/>
              <a:ext cx="298800" cy="393840"/>
              <a:chOff x="4262400" y="4162320"/>
              <a:chExt cx="298800" cy="393840"/>
            </a:xfrm>
          </p:grpSpPr>
          <p:sp>
            <p:nvSpPr>
              <p:cNvPr id="1661" name=""/>
              <p:cNvSpPr/>
              <p:nvPr/>
            </p:nvSpPr>
            <p:spPr>
              <a:xfrm>
                <a:off x="4303080" y="43419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262400" y="416232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4492440" y="4317840"/>
              <a:ext cx="286200" cy="472680"/>
              <a:chOff x="4492440" y="4317840"/>
              <a:chExt cx="286200" cy="472680"/>
            </a:xfrm>
          </p:grpSpPr>
          <p:sp>
            <p:nvSpPr>
              <p:cNvPr id="1664" name=""/>
              <p:cNvSpPr/>
              <p:nvPr/>
            </p:nvSpPr>
            <p:spPr>
              <a:xfrm>
                <a:off x="4492440" y="43178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520520" y="44546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"/>
            <p:cNvGrpSpPr/>
            <p:nvPr/>
          </p:nvGrpSpPr>
          <p:grpSpPr>
            <a:xfrm>
              <a:off x="4525200" y="4008600"/>
              <a:ext cx="329400" cy="664200"/>
              <a:chOff x="4525200" y="4008600"/>
              <a:chExt cx="329400" cy="664200"/>
            </a:xfrm>
          </p:grpSpPr>
          <p:sp>
            <p:nvSpPr>
              <p:cNvPr id="1667" name=""/>
              <p:cNvSpPr/>
              <p:nvPr/>
            </p:nvSpPr>
            <p:spPr>
              <a:xfrm>
                <a:off x="4525200" y="40086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556880" y="41832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596480" y="43369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4712760" y="4341960"/>
              <a:ext cx="303840" cy="368280"/>
              <a:chOff x="4712760" y="4341960"/>
              <a:chExt cx="303840" cy="368280"/>
            </a:xfrm>
          </p:grpSpPr>
          <p:sp>
            <p:nvSpPr>
              <p:cNvPr id="1671" name=""/>
              <p:cNvSpPr/>
              <p:nvPr/>
            </p:nvSpPr>
            <p:spPr>
              <a:xfrm>
                <a:off x="4712760" y="43419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752360" y="449604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4813200" y="4199400"/>
              <a:ext cx="278640" cy="376200"/>
              <a:chOff x="4813200" y="4199400"/>
              <a:chExt cx="278640" cy="376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4833720" y="43614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813200" y="419940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4949280" y="4259160"/>
              <a:ext cx="332280" cy="583920"/>
              <a:chOff x="4949280" y="4259160"/>
              <a:chExt cx="332280" cy="58392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49280" y="42591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980240" y="44704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023440" y="46288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5072040" y="4168800"/>
              <a:ext cx="298800" cy="393480"/>
              <a:chOff x="5072040" y="4168800"/>
              <a:chExt cx="298800" cy="393480"/>
            </a:xfrm>
          </p:grpSpPr>
          <p:sp>
            <p:nvSpPr>
              <p:cNvPr id="1681" name=""/>
              <p:cNvSpPr/>
              <p:nvPr/>
            </p:nvSpPr>
            <p:spPr>
              <a:xfrm>
                <a:off x="5112720" y="43480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072040" y="416880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769320" y="4983480"/>
              <a:ext cx="437400" cy="335880"/>
              <a:chOff x="769320" y="4983480"/>
              <a:chExt cx="437400" cy="335880"/>
            </a:xfrm>
          </p:grpSpPr>
          <p:sp>
            <p:nvSpPr>
              <p:cNvPr id="1684" name=""/>
              <p:cNvSpPr/>
              <p:nvPr/>
            </p:nvSpPr>
            <p:spPr>
              <a:xfrm>
                <a:off x="769320" y="50061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948600" y="49834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742680" y="5391360"/>
              <a:ext cx="540720" cy="335880"/>
              <a:chOff x="742680" y="5391360"/>
              <a:chExt cx="540720" cy="335880"/>
            </a:xfrm>
          </p:grpSpPr>
          <p:sp>
            <p:nvSpPr>
              <p:cNvPr id="1687" name=""/>
              <p:cNvSpPr/>
              <p:nvPr/>
            </p:nvSpPr>
            <p:spPr>
              <a:xfrm>
                <a:off x="742680" y="53913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79120" y="54111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025280" y="54172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"/>
            <p:cNvGrpSpPr/>
            <p:nvPr/>
          </p:nvGrpSpPr>
          <p:grpSpPr>
            <a:xfrm>
              <a:off x="838080" y="5548680"/>
              <a:ext cx="437040" cy="335880"/>
              <a:chOff x="838080" y="5548680"/>
              <a:chExt cx="437040" cy="335880"/>
            </a:xfrm>
          </p:grpSpPr>
          <p:sp>
            <p:nvSpPr>
              <p:cNvPr id="1691" name=""/>
              <p:cNvSpPr/>
              <p:nvPr/>
            </p:nvSpPr>
            <p:spPr>
              <a:xfrm>
                <a:off x="838080" y="55702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017000" y="55486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3" name=""/>
            <p:cNvSpPr/>
            <p:nvPr/>
          </p:nvSpPr>
          <p:spPr>
            <a:xfrm>
              <a:off x="1160280" y="56116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72920" y="576900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933120" y="5764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01320" y="5800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310760" y="56134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82440" y="6000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79280" y="5913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363320" y="577548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684080" y="577836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301400" y="53928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158480" y="536616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450440" y="547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1325160" y="5145480"/>
              <a:ext cx="437400" cy="335880"/>
              <a:chOff x="1325160" y="5145480"/>
              <a:chExt cx="437400" cy="335880"/>
            </a:xfrm>
          </p:grpSpPr>
          <p:sp>
            <p:nvSpPr>
              <p:cNvPr id="1706" name=""/>
              <p:cNvSpPr/>
              <p:nvPr/>
            </p:nvSpPr>
            <p:spPr>
              <a:xfrm>
                <a:off x="1325160" y="51670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504440" y="51454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1304640" y="5000760"/>
              <a:ext cx="421200" cy="217080"/>
              <a:chOff x="1304640" y="5000760"/>
              <a:chExt cx="421200" cy="217080"/>
            </a:xfrm>
          </p:grpSpPr>
          <p:sp>
            <p:nvSpPr>
              <p:cNvPr id="1709" name=""/>
              <p:cNvSpPr/>
              <p:nvPr/>
            </p:nvSpPr>
            <p:spPr>
              <a:xfrm>
                <a:off x="1304640" y="500364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467720" y="50007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1" name=""/>
            <p:cNvSpPr/>
            <p:nvPr/>
          </p:nvSpPr>
          <p:spPr>
            <a:xfrm>
              <a:off x="1520640" y="4757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617480" y="48718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63280" y="480096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4" name=""/>
            <p:cNvGrpSpPr/>
            <p:nvPr/>
          </p:nvGrpSpPr>
          <p:grpSpPr>
            <a:xfrm>
              <a:off x="1713960" y="4989960"/>
              <a:ext cx="429480" cy="335880"/>
              <a:chOff x="1713960" y="4989960"/>
              <a:chExt cx="429480" cy="335880"/>
            </a:xfrm>
          </p:grpSpPr>
          <p:sp>
            <p:nvSpPr>
              <p:cNvPr id="1715" name=""/>
              <p:cNvSpPr/>
              <p:nvPr/>
            </p:nvSpPr>
            <p:spPr>
              <a:xfrm>
                <a:off x="1713960" y="50126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885320" y="49899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1563840" y="5265720"/>
              <a:ext cx="417960" cy="219240"/>
              <a:chOff x="1563840" y="5265720"/>
              <a:chExt cx="417960" cy="219240"/>
            </a:xfrm>
          </p:grpSpPr>
          <p:sp>
            <p:nvSpPr>
              <p:cNvPr id="1718" name=""/>
              <p:cNvSpPr/>
              <p:nvPr/>
            </p:nvSpPr>
            <p:spPr>
              <a:xfrm>
                <a:off x="1563840" y="527076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23680" y="52657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1685520" y="5386680"/>
              <a:ext cx="541800" cy="335880"/>
              <a:chOff x="1685520" y="5386680"/>
              <a:chExt cx="541800" cy="335880"/>
            </a:xfrm>
          </p:grpSpPr>
          <p:sp>
            <p:nvSpPr>
              <p:cNvPr id="1721" name=""/>
              <p:cNvSpPr/>
              <p:nvPr/>
            </p:nvSpPr>
            <p:spPr>
              <a:xfrm>
                <a:off x="1685520" y="53866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823760" y="54086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969200" y="54115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1771200" y="5554800"/>
              <a:ext cx="429480" cy="335880"/>
              <a:chOff x="1771200" y="5554800"/>
              <a:chExt cx="429480" cy="335880"/>
            </a:xfrm>
          </p:grpSpPr>
          <p:sp>
            <p:nvSpPr>
              <p:cNvPr id="1725" name=""/>
              <p:cNvSpPr/>
              <p:nvPr/>
            </p:nvSpPr>
            <p:spPr>
              <a:xfrm>
                <a:off x="1771200" y="55749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942560" y="555480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7" name=""/>
            <p:cNvSpPr/>
            <p:nvPr/>
          </p:nvSpPr>
          <p:spPr>
            <a:xfrm>
              <a:off x="1875960" y="5776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015640" y="5894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142720" y="5797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909440" y="5981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312640" y="580248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2" name=""/>
            <p:cNvGrpSpPr/>
            <p:nvPr/>
          </p:nvGrpSpPr>
          <p:grpSpPr>
            <a:xfrm>
              <a:off x="2084400" y="5629320"/>
              <a:ext cx="417960" cy="219960"/>
              <a:chOff x="2084400" y="5629320"/>
              <a:chExt cx="417960" cy="219960"/>
            </a:xfrm>
          </p:grpSpPr>
          <p:sp>
            <p:nvSpPr>
              <p:cNvPr id="1733" name=""/>
              <p:cNvSpPr/>
              <p:nvPr/>
            </p:nvSpPr>
            <p:spPr>
              <a:xfrm>
                <a:off x="2084400" y="563508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244240" y="56293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2087280" y="5405760"/>
              <a:ext cx="540720" cy="335880"/>
              <a:chOff x="2087280" y="5405760"/>
              <a:chExt cx="540720" cy="335880"/>
            </a:xfrm>
          </p:grpSpPr>
          <p:sp>
            <p:nvSpPr>
              <p:cNvPr id="1736" name=""/>
              <p:cNvSpPr/>
              <p:nvPr/>
            </p:nvSpPr>
            <p:spPr>
              <a:xfrm>
                <a:off x="2087280" y="54057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224800" y="54288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369880" y="54316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2258640" y="5175720"/>
              <a:ext cx="429480" cy="335880"/>
              <a:chOff x="2258640" y="5175720"/>
              <a:chExt cx="429480" cy="335880"/>
            </a:xfrm>
          </p:grpSpPr>
          <p:sp>
            <p:nvSpPr>
              <p:cNvPr id="1740" name=""/>
              <p:cNvSpPr/>
              <p:nvPr/>
            </p:nvSpPr>
            <p:spPr>
              <a:xfrm>
                <a:off x="2258640" y="51958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430000" y="51757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2239920" y="5002560"/>
              <a:ext cx="419760" cy="218880"/>
              <a:chOff x="2239920" y="5002560"/>
              <a:chExt cx="419760" cy="218880"/>
            </a:xfrm>
          </p:grpSpPr>
          <p:sp>
            <p:nvSpPr>
              <p:cNvPr id="1743" name=""/>
              <p:cNvSpPr/>
              <p:nvPr/>
            </p:nvSpPr>
            <p:spPr>
              <a:xfrm>
                <a:off x="2239920" y="500724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401560" y="50025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>
              <a:off x="2449080" y="4792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560320" y="48988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707920" y="482004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5193720" y="3367080"/>
              <a:ext cx="327960" cy="561600"/>
              <a:chOff x="5193720" y="3367080"/>
              <a:chExt cx="327960" cy="561600"/>
            </a:xfrm>
          </p:grpSpPr>
          <p:sp>
            <p:nvSpPr>
              <p:cNvPr id="1749" name=""/>
              <p:cNvSpPr/>
              <p:nvPr/>
            </p:nvSpPr>
            <p:spPr>
              <a:xfrm>
                <a:off x="5193720" y="33670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218920" y="35560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263560" y="37144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338800" y="3413520"/>
              <a:ext cx="278640" cy="376200"/>
              <a:chOff x="5338800" y="3413520"/>
              <a:chExt cx="278640" cy="376200"/>
            </a:xfrm>
          </p:grpSpPr>
          <p:sp>
            <p:nvSpPr>
              <p:cNvPr id="1753" name=""/>
              <p:cNvSpPr/>
              <p:nvPr/>
            </p:nvSpPr>
            <p:spPr>
              <a:xfrm>
                <a:off x="5359320" y="35755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338800" y="34135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5" name=""/>
            <p:cNvGrpSpPr/>
            <p:nvPr/>
          </p:nvGrpSpPr>
          <p:grpSpPr>
            <a:xfrm>
              <a:off x="5486040" y="3676680"/>
              <a:ext cx="304920" cy="355320"/>
              <a:chOff x="5486040" y="3676680"/>
              <a:chExt cx="304920" cy="355320"/>
            </a:xfrm>
          </p:grpSpPr>
          <p:sp>
            <p:nvSpPr>
              <p:cNvPr id="1756" name=""/>
              <p:cNvSpPr/>
              <p:nvPr/>
            </p:nvSpPr>
            <p:spPr>
              <a:xfrm>
                <a:off x="5486040" y="36766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526720" y="381780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8" name=""/>
            <p:cNvSpPr/>
            <p:nvPr/>
          </p:nvSpPr>
          <p:spPr>
            <a:xfrm>
              <a:off x="5606640" y="3708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5292000" y="4318200"/>
              <a:ext cx="285480" cy="470520"/>
              <a:chOff x="5292000" y="4318200"/>
              <a:chExt cx="285480" cy="470520"/>
            </a:xfrm>
          </p:grpSpPr>
          <p:sp>
            <p:nvSpPr>
              <p:cNvPr id="1760" name=""/>
              <p:cNvSpPr/>
              <p:nvPr/>
            </p:nvSpPr>
            <p:spPr>
              <a:xfrm>
                <a:off x="5292000" y="43182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319360" y="44528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5339880" y="4027320"/>
              <a:ext cx="331200" cy="663120"/>
              <a:chOff x="5339880" y="4027320"/>
              <a:chExt cx="331200" cy="663120"/>
            </a:xfrm>
          </p:grpSpPr>
          <p:sp>
            <p:nvSpPr>
              <p:cNvPr id="1763" name=""/>
              <p:cNvSpPr/>
              <p:nvPr/>
            </p:nvSpPr>
            <p:spPr>
              <a:xfrm>
                <a:off x="5339880" y="40273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374800" y="42019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412960" y="43545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522400" y="4351320"/>
              <a:ext cx="304920" cy="368280"/>
              <a:chOff x="5522400" y="4351320"/>
              <a:chExt cx="304920" cy="368280"/>
            </a:xfrm>
          </p:grpSpPr>
          <p:sp>
            <p:nvSpPr>
              <p:cNvPr id="1767" name=""/>
              <p:cNvSpPr/>
              <p:nvPr/>
            </p:nvSpPr>
            <p:spPr>
              <a:xfrm>
                <a:off x="5522400" y="43513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563080" y="450540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5622480" y="4192920"/>
              <a:ext cx="280080" cy="375120"/>
              <a:chOff x="5622480" y="4192920"/>
              <a:chExt cx="280080" cy="375120"/>
            </a:xfrm>
          </p:grpSpPr>
          <p:sp>
            <p:nvSpPr>
              <p:cNvPr id="1770" name=""/>
              <p:cNvSpPr/>
              <p:nvPr/>
            </p:nvSpPr>
            <p:spPr>
              <a:xfrm>
                <a:off x="5644440" y="43538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622480" y="41929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2" name=""/>
            <p:cNvSpPr/>
            <p:nvPr/>
          </p:nvSpPr>
          <p:spPr>
            <a:xfrm>
              <a:off x="5767200" y="4475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3" name="" descr=""/>
            <p:cNvPicPr/>
            <p:nvPr/>
          </p:nvPicPr>
          <p:blipFill>
            <a:blip r:embed="rId2"/>
            <a:stretch/>
          </p:blipFill>
          <p:spPr>
            <a:xfrm>
              <a:off x="6095880" y="3352680"/>
              <a:ext cx="27860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ary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olding or coiling of the polypeptide into a repeating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ix and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eated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"/>
          <p:cNvGrpSpPr/>
          <p:nvPr/>
        </p:nvGrpSpPr>
        <p:grpSpPr>
          <a:xfrm>
            <a:off x="455040" y="5955120"/>
            <a:ext cx="1952280" cy="534960"/>
            <a:chOff x="455040" y="5955120"/>
            <a:chExt cx="1952280" cy="534960"/>
          </a:xfrm>
        </p:grpSpPr>
        <p:sp>
          <p:nvSpPr>
            <p:cNvPr id="1777" name=""/>
            <p:cNvSpPr/>
            <p:nvPr/>
          </p:nvSpPr>
          <p:spPr>
            <a:xfrm>
              <a:off x="1203120" y="598824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49200" y="595512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5504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988B-20A3-428E-A2C1-CFB284BDD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tiary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overall three-dimensional shape of a polypept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from interactions between amino acids and R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457200" y="3016800"/>
            <a:ext cx="8445600" cy="3279240"/>
            <a:chOff x="457200" y="3016800"/>
            <a:chExt cx="8445600" cy="3279240"/>
          </a:xfrm>
        </p:grpSpPr>
        <p:sp>
          <p:nvSpPr>
            <p:cNvPr id="1784" name=""/>
            <p:cNvSpPr/>
            <p:nvPr/>
          </p:nvSpPr>
          <p:spPr>
            <a:xfrm>
              <a:off x="5394240" y="3597480"/>
              <a:ext cx="630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367320" y="3541680"/>
              <a:ext cx="63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6" name="" descr=""/>
            <p:cNvPicPr/>
            <p:nvPr/>
          </p:nvPicPr>
          <p:blipFill>
            <a:blip r:embed="rId1"/>
            <a:stretch/>
          </p:blipFill>
          <p:spPr>
            <a:xfrm>
              <a:off x="457200" y="3505320"/>
              <a:ext cx="3581280" cy="27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7" name="" descr=""/>
            <p:cNvPicPr/>
            <p:nvPr/>
          </p:nvPicPr>
          <p:blipFill>
            <a:blip r:embed="rId2"/>
            <a:stretch/>
          </p:blipFill>
          <p:spPr>
            <a:xfrm>
              <a:off x="5372280" y="3079800"/>
              <a:ext cx="286380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>
              <a:off x="5365800" y="3857400"/>
              <a:ext cx="63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365800" y="4178160"/>
              <a:ext cx="63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342040" y="4430520"/>
              <a:ext cx="630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032440" y="4429080"/>
              <a:ext cx="630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24480" y="4683240"/>
              <a:ext cx="630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764320" y="5416560"/>
              <a:ext cx="628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108840" y="5416560"/>
              <a:ext cx="628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586560" y="541656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81720" y="5414760"/>
              <a:ext cx="627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899400" y="5405400"/>
              <a:ext cx="6300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608880" y="5130360"/>
              <a:ext cx="628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43680" y="4746600"/>
              <a:ext cx="628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29400" y="474804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434280" y="4748040"/>
              <a:ext cx="630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173640" y="4735440"/>
              <a:ext cx="630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389640" y="4156200"/>
              <a:ext cx="63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629400" y="3737160"/>
              <a:ext cx="627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16800" y="3940200"/>
              <a:ext cx="6300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054840" y="3689280"/>
              <a:ext cx="6300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54840" y="3940200"/>
              <a:ext cx="6300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278840" y="3016800"/>
              <a:ext cx="16239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ydrophobic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actions and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n der Waal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action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669080" y="3918960"/>
              <a:ext cx="1170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lypeptid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ckb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479840" y="3974760"/>
              <a:ext cx="1408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yrdoge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59400" y="4156200"/>
              <a:ext cx="26028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979960" y="5618160"/>
              <a:ext cx="1103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onic b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6958080" y="3224160"/>
              <a:ext cx="38088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299360" y="41148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524920" y="3557520"/>
              <a:ext cx="453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080040" y="4952520"/>
              <a:ext cx="1532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ulfide bri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7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A95F-D46B-4E12-92B3-12207CFE4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ternary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overall protein structure that results from the aggregation of two or more polypeptide sub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2971800" y="2513160"/>
            <a:ext cx="2952720" cy="3976560"/>
            <a:chOff x="2971800" y="2513160"/>
            <a:chExt cx="2952720" cy="3976560"/>
          </a:xfrm>
        </p:grpSpPr>
        <p:pic>
          <p:nvPicPr>
            <p:cNvPr id="1821" name="" descr=""/>
            <p:cNvPicPr/>
            <p:nvPr/>
          </p:nvPicPr>
          <p:blipFill>
            <a:blip r:embed="rId1"/>
            <a:stretch/>
          </p:blipFill>
          <p:spPr>
            <a:xfrm>
              <a:off x="2971800" y="2513160"/>
              <a:ext cx="2786040" cy="35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4778280" y="3083040"/>
              <a:ext cx="1036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ypepti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433760" y="4603680"/>
              <a:ext cx="86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lla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203720" y="4794120"/>
              <a:ext cx="1266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4722840" y="4989240"/>
              <a:ext cx="572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 flipV="1">
              <a:off x="4893840" y="4989240"/>
              <a:ext cx="5868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145040" y="6054840"/>
              <a:ext cx="127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145040" y="6186600"/>
              <a:ext cx="127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oglob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016600" y="5719680"/>
              <a:ext cx="460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56200" y="5783400"/>
              <a:ext cx="351000" cy="12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409000" y="5614920"/>
              <a:ext cx="448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r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332680" y="5780160"/>
              <a:ext cx="591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894200" y="6026040"/>
              <a:ext cx="11592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659480" y="6013440"/>
              <a:ext cx="12060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462480" y="618480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8F26-1B2A-4962-9564-1A9D26F4D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oly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long molecule consisting of many similar building blocks called mon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C73F-5747-4240-BF26-E56A81897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our levels of protein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154080" y="2783160"/>
            <a:ext cx="8989920" cy="1712160"/>
            <a:chOff x="154080" y="2783160"/>
            <a:chExt cx="8989920" cy="1712160"/>
          </a:xfrm>
        </p:grpSpPr>
        <p:pic>
          <p:nvPicPr>
            <p:cNvPr id="1840" name="" descr=""/>
            <p:cNvPicPr/>
            <p:nvPr/>
          </p:nvPicPr>
          <p:blipFill>
            <a:blip r:embed="rId1"/>
            <a:stretch/>
          </p:blipFill>
          <p:spPr>
            <a:xfrm>
              <a:off x="657360" y="3276360"/>
              <a:ext cx="8486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"/>
            <p:cNvSpPr/>
            <p:nvPr/>
          </p:nvSpPr>
          <p:spPr>
            <a:xfrm>
              <a:off x="154080" y="2783160"/>
              <a:ext cx="916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 flipV="1">
              <a:off x="714240" y="3176640"/>
              <a:ext cx="22860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71600" y="3481200"/>
              <a:ext cx="53352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1447920" y="3557520"/>
              <a:ext cx="457200" cy="15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49680" y="3344400"/>
              <a:ext cx="94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un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33720" y="3746520"/>
              <a:ext cx="15228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743200" y="3405240"/>
              <a:ext cx="304920" cy="7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132800" y="3716640"/>
              <a:ext cx="671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9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A1C3-1F48-47B8-AC2F-C5B05345F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ickle-Cell Disease: A Simple Change in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rimary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ckle-cell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rom a single amino acid substitution in the protein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98B3-FBFF-4716-9613-E0F6C317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moglobin structure and sickle-cell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7391520" y="5264640"/>
            <a:ext cx="16761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bers of abnorm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moglobin deform cell into sickle sha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453600" y="1307880"/>
            <a:ext cx="8538120" cy="5066280"/>
            <a:chOff x="453600" y="1307880"/>
            <a:chExt cx="8538120" cy="5066280"/>
          </a:xfrm>
        </p:grpSpPr>
        <p:pic>
          <p:nvPicPr>
            <p:cNvPr id="1857" name="" descr=""/>
            <p:cNvPicPr/>
            <p:nvPr/>
          </p:nvPicPr>
          <p:blipFill>
            <a:blip r:embed="rId1"/>
            <a:stretch/>
          </p:blipFill>
          <p:spPr>
            <a:xfrm>
              <a:off x="2581200" y="1658880"/>
              <a:ext cx="4481640" cy="43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8" name=""/>
            <p:cNvSpPr/>
            <p:nvPr/>
          </p:nvSpPr>
          <p:spPr>
            <a:xfrm>
              <a:off x="685800" y="1433160"/>
              <a:ext cx="160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85800" y="2026440"/>
              <a:ext cx="1603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 tertia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5800" y="3007800"/>
              <a:ext cx="160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ternary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5800" y="393192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5800" y="5044680"/>
              <a:ext cx="160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 bloo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ll sh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560600" y="300960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moglobin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754280" y="3913560"/>
              <a:ext cx="160344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s do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t associa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on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other, eac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ries oxyge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766880" y="5042520"/>
              <a:ext cx="160344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 cells ar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ll of individ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moglob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s, eac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rying oxy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16160" y="285048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289240" y="336168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090960" y="285048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944800" y="343476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90960" y="481896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970600" y="481896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059440" y="299664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986360" y="336168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934240" y="2996640"/>
              <a:ext cx="1603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934240" y="3215880"/>
              <a:ext cx="1603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475160" y="1461600"/>
              <a:ext cx="1604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475160" y="2055240"/>
              <a:ext cx="160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 tertia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475160" y="3036240"/>
              <a:ext cx="1604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ternary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475160" y="3579480"/>
              <a:ext cx="1604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75160" y="5206320"/>
              <a:ext cx="1604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 bloo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ll sh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184880" y="317160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moglobin 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378560" y="3551400"/>
              <a:ext cx="16034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s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act with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e another to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ystallize into a fiber, capacity to carry oxygen is greatly reduc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309840" y="219348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24760" y="2193480"/>
              <a:ext cx="1603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216160" y="170928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448000" y="1709280"/>
              <a:ext cx="946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654280" y="1714320"/>
              <a:ext cx="95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884320" y="171576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90960" y="1698120"/>
              <a:ext cx="947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22800" y="1698120"/>
              <a:ext cx="946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552840" y="169812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484960" y="1696680"/>
              <a:ext cx="94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715000" y="169668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21280" y="168552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151680" y="1685520"/>
              <a:ext cx="947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370560" y="168552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253120" y="1698120"/>
              <a:ext cx="947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022720" y="169812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362320" y="1307880"/>
              <a:ext cx="196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rmal hemoglob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059440" y="1321920"/>
              <a:ext cx="2185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ckle-cell hemoglob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297480" y="1838160"/>
              <a:ext cx="1386000" cy="14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910200" y="146556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079880" y="146556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53600" y="60685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454880" y="1478880"/>
              <a:ext cx="1536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posed hydrophobic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527920" y="1599840"/>
              <a:ext cx="313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197880" y="1599840"/>
              <a:ext cx="3160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763000" y="1599840"/>
              <a:ext cx="313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62440" y="1599840"/>
              <a:ext cx="331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424320" y="1599840"/>
              <a:ext cx="322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633480" y="1599840"/>
              <a:ext cx="3420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u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863880" y="1599840"/>
              <a:ext cx="322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334480" y="1599840"/>
              <a:ext cx="313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563080" y="1599840"/>
              <a:ext cx="313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785200" y="1599840"/>
              <a:ext cx="331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009480" y="1606320"/>
              <a:ext cx="3160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234120" y="1599840"/>
              <a:ext cx="322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61640" y="1614240"/>
              <a:ext cx="313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76920" y="1599840"/>
              <a:ext cx="322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144F-AD55-4BD4-91C4-2FB107A6D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What Determines Protein Conformation?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in co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the physical and chemical conditions of the protein’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264B-8827-40BA-8631-51F0C6F58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at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en a protein unravels and loses its native co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"/>
          <p:cNvGrpSpPr/>
          <p:nvPr/>
        </p:nvGrpSpPr>
        <p:grpSpPr>
          <a:xfrm>
            <a:off x="1139040" y="2514240"/>
            <a:ext cx="6785280" cy="3430080"/>
            <a:chOff x="1139040" y="2514240"/>
            <a:chExt cx="6785280" cy="3430080"/>
          </a:xfrm>
        </p:grpSpPr>
        <p:grpSp>
          <p:nvGrpSpPr>
            <p:cNvPr id="1927" name=""/>
            <p:cNvGrpSpPr/>
            <p:nvPr/>
          </p:nvGrpSpPr>
          <p:grpSpPr>
            <a:xfrm>
              <a:off x="1676160" y="2514240"/>
              <a:ext cx="6248160" cy="3391560"/>
              <a:chOff x="1676160" y="2514240"/>
              <a:chExt cx="6248160" cy="3391560"/>
            </a:xfrm>
          </p:grpSpPr>
          <p:pic>
            <p:nvPicPr>
              <p:cNvPr id="19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7040" y="2906640"/>
                <a:ext cx="5867280" cy="26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9" name=""/>
              <p:cNvSpPr/>
              <p:nvPr/>
            </p:nvSpPr>
            <p:spPr>
              <a:xfrm>
                <a:off x="3771720" y="2514240"/>
                <a:ext cx="17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natur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771720" y="5600160"/>
                <a:ext cx="17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natur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790960" y="4990680"/>
                <a:ext cx="17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natured prote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676160" y="4990680"/>
                <a:ext cx="17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rmal prote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3" name=""/>
            <p:cNvSpPr/>
            <p:nvPr/>
          </p:nvSpPr>
          <p:spPr>
            <a:xfrm>
              <a:off x="1139040" y="56386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016D-C619-4152-9C41-D4ABF35CF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Protein-Folding Problem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y go through several intermediate states on their way to a stable co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754D-3903-4FC4-90B0-14FD0CCA3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peron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rotein molecules that assist in the proper folding of other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0" y="2469600"/>
            <a:ext cx="9144000" cy="3932640"/>
            <a:chOff x="0" y="2469600"/>
            <a:chExt cx="9144000" cy="3932640"/>
          </a:xfrm>
        </p:grpSpPr>
        <p:grpSp>
          <p:nvGrpSpPr>
            <p:cNvPr id="1941" name=""/>
            <p:cNvGrpSpPr/>
            <p:nvPr/>
          </p:nvGrpSpPr>
          <p:grpSpPr>
            <a:xfrm>
              <a:off x="0" y="2469600"/>
              <a:ext cx="9144000" cy="3932640"/>
              <a:chOff x="0" y="2469600"/>
              <a:chExt cx="9144000" cy="3932640"/>
            </a:xfrm>
          </p:grpSpPr>
          <p:sp>
            <p:nvSpPr>
              <p:cNvPr id="1942" name=""/>
              <p:cNvSpPr/>
              <p:nvPr/>
            </p:nvSpPr>
            <p:spPr>
              <a:xfrm>
                <a:off x="0" y="3963600"/>
                <a:ext cx="20574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ollow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ylin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38240" y="2470320"/>
                <a:ext cx="7648560" cy="257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4" name=""/>
              <p:cNvSpPr/>
              <p:nvPr/>
            </p:nvSpPr>
            <p:spPr>
              <a:xfrm>
                <a:off x="838440" y="3308400"/>
                <a:ext cx="75960" cy="1752480"/>
              </a:xfrm>
              <a:custGeom>
                <a:avLst/>
                <a:gdLst>
                  <a:gd name="textAreaLeft" fmla="*/ 48600 w 75960"/>
                  <a:gd name="textAreaRight" fmla="*/ 76320 w 7596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52640" y="3003120"/>
                <a:ext cx="17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067040" y="5220720"/>
                <a:ext cx="18032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aperoni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(fully assembl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641680" y="5244120"/>
                <a:ext cx="215892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eps of Chaperoni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tion: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An unfolded poly-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peptide enters th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cylinder from one end.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648320" y="5212440"/>
                <a:ext cx="27432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ap attaches, causing the cylinder to change shape i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ch a way that it creates a hydrophilic environment for the folding of the polypeptide.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239240" y="5212440"/>
                <a:ext cx="190476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ap comes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f, and the properly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olded protein is released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858000" y="2469600"/>
                <a:ext cx="17528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rrectly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old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429000" y="2774520"/>
                <a:ext cx="1752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lypepti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429000" y="292752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759800" y="2774880"/>
                <a:ext cx="60948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4683600" y="5251320"/>
                <a:ext cx="270360" cy="275040"/>
                <a:chOff x="4683600" y="5251320"/>
                <a:chExt cx="270360" cy="27504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4703760" y="5262480"/>
                  <a:ext cx="228600" cy="228240"/>
                </a:xfrm>
                <a:prstGeom prst="flowChartConnector">
                  <a:avLst/>
                </a:prstGeom>
                <a:solidFill>
                  <a:srgbClr val="009999"/>
                </a:solidFill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683600" y="52513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7" name=""/>
              <p:cNvGrpSpPr/>
              <p:nvPr/>
            </p:nvGrpSpPr>
            <p:grpSpPr>
              <a:xfrm>
                <a:off x="2639160" y="5695920"/>
                <a:ext cx="270360" cy="275040"/>
                <a:chOff x="2639160" y="5695920"/>
                <a:chExt cx="270360" cy="275040"/>
              </a:xfrm>
            </p:grpSpPr>
            <p:sp>
              <p:nvSpPr>
                <p:cNvPr id="1958" name=""/>
                <p:cNvSpPr/>
                <p:nvPr/>
              </p:nvSpPr>
              <p:spPr>
                <a:xfrm>
                  <a:off x="2659320" y="5707080"/>
                  <a:ext cx="228600" cy="228600"/>
                </a:xfrm>
                <a:prstGeom prst="flowChartConnector">
                  <a:avLst/>
                </a:prstGeom>
                <a:solidFill>
                  <a:srgbClr val="009999"/>
                </a:solidFill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2639160" y="56959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0" name=""/>
              <p:cNvGrpSpPr/>
              <p:nvPr/>
            </p:nvGrpSpPr>
            <p:grpSpPr>
              <a:xfrm>
                <a:off x="7149240" y="5251320"/>
                <a:ext cx="270360" cy="275040"/>
                <a:chOff x="7149240" y="5251320"/>
                <a:chExt cx="270360" cy="27504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7169400" y="5262480"/>
                  <a:ext cx="228600" cy="228240"/>
                </a:xfrm>
                <a:prstGeom prst="flowChartConnector">
                  <a:avLst/>
                </a:prstGeom>
                <a:solidFill>
                  <a:srgbClr val="009999"/>
                </a:solidFill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7149240" y="52513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63" name=""/>
            <p:cNvSpPr/>
            <p:nvPr/>
          </p:nvSpPr>
          <p:spPr>
            <a:xfrm>
              <a:off x="225000" y="60955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4FF3-39C1-4AD5-9728-03F46F2FA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to determine a protein’s three-dimensi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2957400" y="1996920"/>
            <a:ext cx="4586400" cy="4455000"/>
            <a:chOff x="2957400" y="1996920"/>
            <a:chExt cx="4586400" cy="4455000"/>
          </a:xfrm>
        </p:grpSpPr>
        <p:pic>
          <p:nvPicPr>
            <p:cNvPr id="1968" name="" descr=""/>
            <p:cNvPicPr/>
            <p:nvPr/>
          </p:nvPicPr>
          <p:blipFill>
            <a:blip r:embed="rId1"/>
            <a:stretch/>
          </p:blipFill>
          <p:spPr>
            <a:xfrm>
              <a:off x="3490920" y="2673360"/>
              <a:ext cx="319716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9" name=""/>
            <p:cNvSpPr/>
            <p:nvPr/>
          </p:nvSpPr>
          <p:spPr>
            <a:xfrm>
              <a:off x="6486480" y="1996920"/>
              <a:ext cx="1057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-ra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ffraction patt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5624640" y="2274480"/>
              <a:ext cx="88092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90920" y="2636640"/>
              <a:ext cx="1427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tographic fil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929120" y="2787480"/>
              <a:ext cx="58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414600" y="2887560"/>
              <a:ext cx="132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ffracted X-r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673520" y="3040200"/>
              <a:ext cx="58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957400" y="3100320"/>
              <a:ext cx="903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-ra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094280" y="3098880"/>
              <a:ext cx="647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-ra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b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563360" y="3767040"/>
              <a:ext cx="703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ys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908600" y="3503520"/>
              <a:ext cx="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185080" y="379872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ic ac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141600" y="3798720"/>
              <a:ext cx="66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683320" y="4032360"/>
              <a:ext cx="29376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6329160" y="4032360"/>
              <a:ext cx="176040" cy="82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092760" y="6176880"/>
              <a:ext cx="200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-ray diffraction patt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087880" y="6175440"/>
              <a:ext cx="1754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D computer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1368000" y="618444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5.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E91E-71A0-4ECF-B6D1-7D5F0FCCF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5.5: Nucleic acids store and transmit heredit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unit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the amino acid sequence of polypep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ade of 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4551-0678-4BCB-9021-4C9396291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Roles of Nucleic Acid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types of nucleic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oxyribonucleic a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7519-E8B9-4AF4-8C2E-6A1D8FE9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Synthesis and Breakdown of Poly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omers form larger molecules by condensation reactions called dehydration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91800" y="2935440"/>
            <a:ext cx="6684840" cy="2718720"/>
            <a:chOff x="991800" y="2935440"/>
            <a:chExt cx="6684840" cy="2718720"/>
          </a:xfrm>
        </p:grpSpPr>
        <p:grpSp>
          <p:nvGrpSpPr>
            <p:cNvPr id="190" name=""/>
            <p:cNvGrpSpPr/>
            <p:nvPr/>
          </p:nvGrpSpPr>
          <p:grpSpPr>
            <a:xfrm>
              <a:off x="2315880" y="2935440"/>
              <a:ext cx="5360760" cy="2702880"/>
              <a:chOff x="2315880" y="2935440"/>
              <a:chExt cx="5360760" cy="2702880"/>
            </a:xfrm>
          </p:grpSpPr>
          <p:pic>
            <p:nvPicPr>
              <p:cNvPr id="1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74520" y="2935440"/>
                <a:ext cx="3809520" cy="240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2316240" y="5302440"/>
                <a:ext cx="536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a) Dehydration reaction in the synthesis of a poly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31720" y="3000600"/>
                <a:ext cx="488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48760" y="300060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39120" y="299124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82080" y="301644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291560" y="300384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39240" y="302904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09520" y="4713480"/>
                <a:ext cx="488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61600" y="47134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55000" y="468648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202640" y="469944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37680" y="469944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60120" y="470556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66120" y="30290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65920" y="4070520"/>
                <a:ext cx="462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89080" y="3435840"/>
                <a:ext cx="1448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hort poly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13680" y="3416760"/>
                <a:ext cx="1888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nlinked mon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20760" y="5061240"/>
                <a:ext cx="159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onger poly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15880" y="3883680"/>
                <a:ext cx="2893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ehydration removes a wat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olecule, forming a new bo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991800" y="5318280"/>
              <a:ext cx="1288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5.2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B021-D837-468C-9078-990AF6C2B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information for the synthesis of specific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0F2E-1086-48E7-A2C9-E942C5105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s RNA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s protein synthesis through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1950480" y="1944720"/>
            <a:ext cx="5796000" cy="4443840"/>
            <a:chOff x="1950480" y="1944720"/>
            <a:chExt cx="5796000" cy="4443840"/>
          </a:xfrm>
        </p:grpSpPr>
        <p:grpSp>
          <p:nvGrpSpPr>
            <p:cNvPr id="1999" name=""/>
            <p:cNvGrpSpPr/>
            <p:nvPr/>
          </p:nvGrpSpPr>
          <p:grpSpPr>
            <a:xfrm>
              <a:off x="2933640" y="1944720"/>
              <a:ext cx="4812840" cy="4420080"/>
              <a:chOff x="2933640" y="1944720"/>
              <a:chExt cx="4812840" cy="4420080"/>
            </a:xfrm>
          </p:grpSpPr>
          <p:pic>
            <p:nvPicPr>
              <p:cNvPr id="20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80480" y="1944720"/>
                <a:ext cx="4036680" cy="44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1" name=""/>
              <p:cNvSpPr/>
              <p:nvPr/>
            </p:nvSpPr>
            <p:spPr>
              <a:xfrm>
                <a:off x="2933640" y="2611080"/>
                <a:ext cx="154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33640" y="4463640"/>
                <a:ext cx="154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944800" y="5279760"/>
                <a:ext cx="1541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967120" y="2643120"/>
                <a:ext cx="21895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ynthesis of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       mRNA in the nucleu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179520" y="4488480"/>
                <a:ext cx="208728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vement of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RNA into cytoplasm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ia nuclear po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346920" y="5307840"/>
                <a:ext cx="154044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ynthesi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f protei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346920" y="359388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892120" y="379476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YTOPLAS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552560" y="198576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5020920" y="2204280"/>
                <a:ext cx="200880" cy="20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289120" y="426420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5557320" y="4482720"/>
                <a:ext cx="267480" cy="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58200" y="460044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iboso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V="1">
                <a:off x="5892120" y="4750560"/>
                <a:ext cx="267840" cy="20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6204600" y="5846040"/>
                <a:ext cx="1541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mino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i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166800" y="5896800"/>
                <a:ext cx="53568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025680" y="6037560"/>
                <a:ext cx="699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547800" y="600372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lypepti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4693320" y="6023520"/>
                <a:ext cx="267840" cy="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686120" y="278856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5188680" y="3108600"/>
                <a:ext cx="13356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2" name=""/>
            <p:cNvSpPr/>
            <p:nvPr/>
          </p:nvSpPr>
          <p:spPr>
            <a:xfrm>
              <a:off x="1950480" y="60829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42F7-29ED-461C-8468-AB48ADCE1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Structure of Nucleic Acid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 as polymers called poly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631680" y="6070680"/>
            <a:ext cx="249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Polynucleotid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 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7" name=""/>
          <p:cNvGrpSpPr/>
          <p:nvPr/>
        </p:nvGrpSpPr>
        <p:grpSpPr>
          <a:xfrm>
            <a:off x="2867400" y="1981080"/>
            <a:ext cx="3738240" cy="4509000"/>
            <a:chOff x="2867400" y="1981080"/>
            <a:chExt cx="3738240" cy="4509000"/>
          </a:xfrm>
        </p:grpSpPr>
        <p:pic>
          <p:nvPicPr>
            <p:cNvPr id="2028" name="" descr=""/>
            <p:cNvPicPr/>
            <p:nvPr/>
          </p:nvPicPr>
          <p:blipFill>
            <a:blip r:embed="rId1"/>
            <a:stretch/>
          </p:blipFill>
          <p:spPr>
            <a:xfrm>
              <a:off x="4594320" y="1981080"/>
              <a:ext cx="2011320" cy="39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9" name=""/>
            <p:cNvSpPr/>
            <p:nvPr/>
          </p:nvSpPr>
          <p:spPr>
            <a:xfrm>
              <a:off x="4366080" y="54784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730040" y="198108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486680" y="248112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412160" y="2849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408920" y="510552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110920" y="571500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568400" y="58212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867400" y="61844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919400" y="51782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954320" y="25448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954320" y="33908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954320" y="42368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88D7-FBE6-484D-ABA5-9B208F7E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olynucleot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monomers called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2116440" y="2297160"/>
            <a:ext cx="5209920" cy="3621600"/>
            <a:chOff x="2116440" y="2297160"/>
            <a:chExt cx="5209920" cy="3621600"/>
          </a:xfrm>
        </p:grpSpPr>
        <p:pic>
          <p:nvPicPr>
            <p:cNvPr id="2045" name="" descr=""/>
            <p:cNvPicPr/>
            <p:nvPr/>
          </p:nvPicPr>
          <p:blipFill>
            <a:blip r:embed="rId1"/>
            <a:stretch/>
          </p:blipFill>
          <p:spPr>
            <a:xfrm>
              <a:off x="3635280" y="2297160"/>
              <a:ext cx="369108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6" name=""/>
            <p:cNvSpPr/>
            <p:nvPr/>
          </p:nvSpPr>
          <p:spPr>
            <a:xfrm rot="5400000">
              <a:off x="5699160" y="2162160"/>
              <a:ext cx="209520" cy="1362240"/>
            </a:xfrm>
            <a:custGeom>
              <a:avLst/>
              <a:gdLst>
                <a:gd name="textAreaLeft" fmla="*/ 133920 w 209520"/>
                <a:gd name="textAreaRight" fmla="*/ 209880 w 209520"/>
                <a:gd name="textAreaTop" fmla="*/ 35280 h 1362240"/>
                <a:gd name="textAreaBottom" fmla="*/ 13269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496840" y="2908440"/>
              <a:ext cx="1009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itrogeno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300280" y="2476440"/>
              <a:ext cx="941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s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181040" y="36781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478040" y="40449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149360" y="4407120"/>
              <a:ext cx="332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2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804840" y="4038840"/>
              <a:ext cx="332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204440" y="405288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89760" y="4032360"/>
              <a:ext cx="453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016960" y="37036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142600" y="48099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896280" y="4714920"/>
              <a:ext cx="918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488200" y="4940280"/>
              <a:ext cx="747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nt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117960" y="5618160"/>
              <a:ext cx="2116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 Nucleot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116440" y="56131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778360" y="41450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C1CE-D907-4EE6-94B4-E13A2E20C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ucleotide Mono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ucleotide monom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ade up of nucleosides and phosph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4015800" y="6308640"/>
            <a:ext cx="1839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) Nucleoside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738880" y="6256080"/>
            <a:ext cx="117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5.2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4083480" y="1996920"/>
            <a:ext cx="2732760" cy="4327560"/>
            <a:chOff x="4083480" y="1996920"/>
            <a:chExt cx="2732760" cy="4327560"/>
          </a:xfrm>
        </p:grpSpPr>
        <p:sp>
          <p:nvSpPr>
            <p:cNvPr id="2068" name=""/>
            <p:cNvSpPr/>
            <p:nvPr/>
          </p:nvSpPr>
          <p:spPr>
            <a:xfrm>
              <a:off x="6345360" y="261936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38880" y="27716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88440" y="3181320"/>
              <a:ext cx="1027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acil (in R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486760" y="6024600"/>
              <a:ext cx="1149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bose (in R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901760" y="1996920"/>
              <a:ext cx="1325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trogenous base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yrimidi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3" name="" descr=""/>
            <p:cNvPicPr/>
            <p:nvPr/>
          </p:nvPicPr>
          <p:blipFill>
            <a:blip r:embed="rId1"/>
            <a:stretch/>
          </p:blipFill>
          <p:spPr>
            <a:xfrm>
              <a:off x="4114800" y="2057400"/>
              <a:ext cx="26002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4" name=""/>
            <p:cNvSpPr/>
            <p:nvPr/>
          </p:nvSpPr>
          <p:spPr>
            <a:xfrm>
              <a:off x="4459320" y="2522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309920" y="25988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451400" y="28544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290840" y="2776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139640" y="290052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465800" y="30132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407840" y="2318400"/>
              <a:ext cx="4089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635360" y="26082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614840" y="27716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888800" y="287820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067360" y="2771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195880" y="28684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211720" y="3029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357880" y="278136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951440" y="260208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216400" y="2513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201640" y="23288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378400" y="2602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512680" y="2502720"/>
              <a:ext cx="4089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159600" y="2874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918400" y="26082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180120" y="24908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006960" y="2776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159600" y="29955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842800" y="287496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179400" y="23288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239720" y="3181320"/>
              <a:ext cx="677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ytos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775040" y="3191040"/>
              <a:ext cx="1189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ymine (in D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587840" y="4348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370400" y="42181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568760" y="40356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756320" y="40845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756320" y="4346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890960" y="4421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890960" y="4017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060880" y="4302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079960" y="41162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884120" y="3826440"/>
              <a:ext cx="4089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844600" y="38336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510160" y="40273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294160" y="420048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514840" y="43578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514840" y="44928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584600" y="4483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76840" y="40845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842080" y="40114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830920" y="4402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021360" y="41054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024600" y="42958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158880" y="4364640"/>
              <a:ext cx="4089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444560" y="4630680"/>
              <a:ext cx="646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e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523840" y="4630680"/>
              <a:ext cx="662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a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132160" y="3630600"/>
              <a:ext cx="61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ri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946120" y="534672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08000" y="5288760"/>
              <a:ext cx="5994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02400" y="56894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837400" y="5511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54840" y="55054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143400" y="527364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189840" y="5681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634640" y="53546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200120" y="5299920"/>
              <a:ext cx="5994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392720" y="56944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27720" y="5518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745160" y="5511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835160" y="527832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879800" y="56865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795200" y="5068800"/>
              <a:ext cx="1126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ntose sug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083480" y="6018120"/>
              <a:ext cx="1486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oxyribose (in D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478840" y="6019920"/>
              <a:ext cx="1149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bose (in R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28920" y="586116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783040" y="586728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345360" y="25988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48600" y="279576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806800" y="3199680"/>
              <a:ext cx="950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racil (in RNA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309560" y="556560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408560" y="5192280"/>
              <a:ext cx="2505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 baseline="30000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587120" y="578628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474800" y="586728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740120" y="58593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706280" y="578916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968360" y="556236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732640" y="5213160"/>
              <a:ext cx="2505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 baseline="30000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614200" y="557676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911200" y="579420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031800" y="579744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300000" y="555264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7698-CB1A-4539-9077-A5714C078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114800" y="3581280"/>
            <a:ext cx="25909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133720" y="2514600"/>
            <a:ext cx="190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124080" y="2666880"/>
            <a:ext cx="1143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ucleotide Poly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ucleotide poly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ade up of nucleotides linked by the–OH group on the 3´ carbon of one nucleotide and the phosphate on the 5´ carbon on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2B93-CB7B-4A9E-A799-7A84FCE14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quence of bases along a nucleotide poly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nique for each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2475-FC99-40F9-AA65-AED242CDB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DNA Double Helix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ular DNA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wo polynucleotides that spiral around an imaginary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2742-7DC5-4105-816E-998AD3C2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double hel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two antiparallel nucleotide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"/>
          <p:cNvGrpSpPr/>
          <p:nvPr/>
        </p:nvGrpSpPr>
        <p:grpSpPr>
          <a:xfrm>
            <a:off x="1444320" y="2058840"/>
            <a:ext cx="6861600" cy="4431240"/>
            <a:chOff x="1444320" y="2058840"/>
            <a:chExt cx="6861600" cy="4431240"/>
          </a:xfrm>
        </p:grpSpPr>
        <p:grpSp>
          <p:nvGrpSpPr>
            <p:cNvPr id="2177" name=""/>
            <p:cNvGrpSpPr/>
            <p:nvPr/>
          </p:nvGrpSpPr>
          <p:grpSpPr>
            <a:xfrm>
              <a:off x="2590920" y="2058840"/>
              <a:ext cx="5715000" cy="4405680"/>
              <a:chOff x="2590920" y="2058840"/>
              <a:chExt cx="5715000" cy="4405680"/>
            </a:xfrm>
          </p:grpSpPr>
          <p:pic>
            <p:nvPicPr>
              <p:cNvPr id="21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05240" y="2309760"/>
                <a:ext cx="4133880" cy="40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9" name=""/>
              <p:cNvSpPr/>
              <p:nvPr/>
            </p:nvSpPr>
            <p:spPr>
              <a:xfrm>
                <a:off x="5500800" y="2058840"/>
                <a:ext cx="1339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229440" y="2396880"/>
                <a:ext cx="1542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ugar-phospha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ckb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5842080" y="2561760"/>
                <a:ext cx="406440" cy="29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432480" y="2873160"/>
                <a:ext cx="18734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se pair (joined by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ydrogen bonding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026040" y="3114360"/>
                <a:ext cx="465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269040" y="3277800"/>
                <a:ext cx="1338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ld stran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6083280" y="3416040"/>
                <a:ext cx="407880" cy="23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432480" y="3636720"/>
                <a:ext cx="133992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cleotid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bout to b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ded to a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ew str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5443560" y="3823920"/>
                <a:ext cx="1047600" cy="58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5792760" y="3415680"/>
                <a:ext cx="698400" cy="639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695840" y="4317840"/>
                <a:ext cx="1339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257880" y="6187680"/>
                <a:ext cx="1339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590920" y="5724360"/>
                <a:ext cx="1339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998800" y="6189480"/>
                <a:ext cx="1338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095800" y="5655960"/>
                <a:ext cx="1336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ew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184720" y="4857480"/>
                <a:ext cx="90720" cy="83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H="1">
                <a:off x="5297400" y="4890960"/>
                <a:ext cx="408240" cy="81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43560" y="4219920"/>
                <a:ext cx="6015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745160" y="4851360"/>
                <a:ext cx="1339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687920" y="2066760"/>
                <a:ext cx="1338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144432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35D2-6D10-4551-AC85-C46261D3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itrogenous bases in 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hydrogen bonds in a complementary fashion (A with T only, and C with G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D9EF-B6B3-427B-99E2-53B915CCE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mers can disassemble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55200" y="2514600"/>
            <a:ext cx="5760720" cy="3141360"/>
            <a:chOff x="1555200" y="2514600"/>
            <a:chExt cx="5760720" cy="314136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235320" y="2514600"/>
              <a:ext cx="388620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809080" y="5275440"/>
              <a:ext cx="2795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b) Hydrolysis of a poly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38960" y="4874040"/>
              <a:ext cx="48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89120" y="48564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32080" y="48690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79720" y="48819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6880" y="4906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13520" y="2729160"/>
              <a:ext cx="48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67040" y="274176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61880" y="27230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09880" y="27356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1960" y="27230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2560" y="27291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66400" y="3726000"/>
              <a:ext cx="462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84720" y="48722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05080" y="49068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56760" y="3564720"/>
              <a:ext cx="2567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ydrolysis adds a wa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lecule, breaking a b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5200" y="5320080"/>
              <a:ext cx="1288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5.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3F2A-0EBC-43F6-BD1D-4666CBC43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NA and Proteins as Tape Measures of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lecular comparis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biologists sort out the evolutionary connections among spe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F0B6-CF5B-48D7-8218-DDF159EF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heme of Emergent Properties in the Chemistry of Life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br>
              <a:rPr sz="3000"/>
            </a:b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er levels of 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in the emergence of new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key to the chemistr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F0BB-203C-4DD5-9460-E6D52F417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Diversity of Poly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class of poly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rmed from a specific set of mon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30040" y="17672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60240" y="178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68480" y="17766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5000" y="1825200"/>
            <a:ext cx="355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65200" y="1825200"/>
            <a:ext cx="267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F138-9AFB-4A93-9B64-360A64498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organisms share the same limited number of monomer types, each organism is unique based on the arrangement of monomers into poly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immense variety of polymers can be built from a small set of mono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D208-184F-40E0-9171-32E4124A2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 </cp:lastModifiedBy>
  <dcterms:modified xsi:type="dcterms:W3CDTF">2006-10-03T14:05:02Z</dcterms:modified>
  <cp:revision>1030</cp:revision>
  <dc:subject/>
  <dc:title>video slide</dc:title>
</cp:coreProperties>
</file>